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76E5-51C8-47CD-BAA9-AFFD3816F0F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13AF-F555-4246-A336-858BC18DBA0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488F-9B96-401F-B243-39BACC18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10B-8ECB-4F81-91C9-949E6883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C16A-7480-4F7E-BF4D-D2C6254B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CF8-2B33-435D-906B-F617DC73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371-D88F-4EC4-9F3E-0EC56C94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FC1-A108-4EA5-B057-7E72C0B3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3A0-4759-4BA6-B8DE-4ED7B215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19A-D6D0-4803-9646-2DC685E1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0C9-057B-4E2C-8218-C61CD850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7BC-A2C7-4348-9F06-F2D31CEA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73D-3BDF-4349-9F9C-A8539245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823-CFC6-4120-A10F-721A63D8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2204-1BA4-4AFD-8CC8-0E5664BE98F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60400" y="572616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dioconferenza del 28 maggio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54288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8172360" y="0"/>
            <a:ext cx="971640" cy="764640"/>
            <a:chOff x="8172360" y="0"/>
            <a:chExt cx="971640" cy="76464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8395200" y="0"/>
              <a:ext cx="5173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8172360" y="579240"/>
              <a:ext cx="971640" cy="18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457200" y="170028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nitoraggio e valutazione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la formazion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l Laboratorio del Dipartimento della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nzione Pubblica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093080" y="6453360"/>
            <a:ext cx="20509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01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ità del progetto e sua realizz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visione e test delle metodologie di valutazione della formazione del personale nelle P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azione della “Gui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 la programmazione e la valutazione formativ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i di re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^ fase: gennaio – mar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ognizione sugli assetti organizzativi della funzione formazione,  sullo stato della valutazione della formazione e sui sistemi informativi dedic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^ fase: aprile – giug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 sulla progettazione dei metodi di programmazione e valutazione della formazione, elaborazione della “Guid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^ fase: luglio – sett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rimentazione sul campo presso quattro Amministrazioni centrali    di alcuni lineamenti metodologici di valutazione della 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^ fase: ottobre – dic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atura dei modelli di valutazione della formazione e revisione definitiva della “Guida”, sua diffu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613560"/>
            <a:ext cx="1403280" cy="244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5572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8244000" y="0"/>
            <a:ext cx="900000" cy="764640"/>
            <a:chOff x="8244000" y="0"/>
            <a:chExt cx="900000" cy="764640"/>
          </a:xfrm>
        </p:grpSpPr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8450280" y="0"/>
              <a:ext cx="47916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8244000" y="579240"/>
              <a:ext cx="900000" cy="18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zazione del progetto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tituzione dei gruppi di II° liv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0440" y="1846080"/>
            <a:ext cx="6354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endario e programma gruppi di II° live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rigenti e funzionari della formazi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rticolazione condivisa con il DFP per i gruppi di II° livello preve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 un gruppo specifico dedicato ai Ministeri e altre Amministrazioni cent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 due gruppi tematici trasversali alle altre Amministrazio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un gruppo programmazione e sistemi inform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un gruppo monitoraggio e valu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calendario prevede, per la fase di progettazione di modelli e strumenti, i seguenti appunta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6626160"/>
            <a:ext cx="1332000" cy="23184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8244000" y="0"/>
            <a:ext cx="900000" cy="764640"/>
            <a:chOff x="8244000" y="0"/>
            <a:chExt cx="900000" cy="76464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8450280" y="0"/>
              <a:ext cx="47916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8244000" y="579240"/>
              <a:ext cx="900000" cy="18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petti da defin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62200" y="2178000"/>
            <a:ext cx="590544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eg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i Responsabili della formazione a prendere parte ai gruppi di II° livello (Dirigenti di funzione e loro delega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ual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ibu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lle Amministrazioni: messa a disposizione di metodologie e strumenti già progettati e utilizz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6626160"/>
            <a:ext cx="1332000" cy="23184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8244000" y="0"/>
            <a:ext cx="900000" cy="764640"/>
            <a:chOff x="8244000" y="0"/>
            <a:chExt cx="900000" cy="76464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8450280" y="0"/>
              <a:ext cx="47916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8244000" y="579240"/>
              <a:ext cx="900000" cy="18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Appuntamenti 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ttori delle risorse uman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63640" y="2193840"/>
            <a:ext cx="8137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ggi, 28 maggio 200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ndivisione dei principi e degli orientamenti per il governo della formazione. Linee di indirizzo per la realizzazione della “Guida per la valutazione della formazio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ovedì 22 ottobre  20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ndivisione dei risultati finali. Definizione delle modalità di diffusione dei risultati e “capitalizzazione” dell’esperi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Appuntamenti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igenti della funzione 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calendario degli incontri è stato trasmesso ai Dirig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6626160"/>
            <a:ext cx="1332000" cy="23184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8244000" y="0"/>
            <a:ext cx="900000" cy="764640"/>
            <a:chOff x="8244000" y="0"/>
            <a:chExt cx="900000" cy="764640"/>
          </a:xfrm>
        </p:grpSpPr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8450280" y="0"/>
              <a:ext cx="47916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8244000" y="579240"/>
              <a:ext cx="900000" cy="18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46069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ggetto dell’incontro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908000" y="1773000"/>
            <a:ext cx="5616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boratorio sui modelli e le metodologie per programmare e valutare la formazi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divisi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i principi e orientamenti per il governo della formazione del lavoro pub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rizz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er l’istituzione dei gruppi di II° livello (Dirigenti di funzione e loro delegati), impegnati nella realizzazione della "Guida per la programmazione e la valutazione formativ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572160"/>
            <a:ext cx="1692360" cy="285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5428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8244000" y="0"/>
            <a:ext cx="900000" cy="764640"/>
            <a:chOff x="8244000" y="0"/>
            <a:chExt cx="900000" cy="76464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8450280" y="0"/>
              <a:ext cx="47916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8244000" y="579240"/>
              <a:ext cx="900000" cy="18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e di attenzione per il governo dell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zione formazione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056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a 1. Cicli di realizzazione dei processi form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2492280"/>
            <a:ext cx="82296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900000" y="1773360"/>
          <a:ext cx="7704360" cy="50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73360"/>
                    <a:ext cx="770436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00000" cy="5572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8244000" y="0"/>
            <a:ext cx="900000" cy="764640"/>
            <a:chOff x="8244000" y="0"/>
            <a:chExt cx="900000" cy="764640"/>
          </a:xfrm>
        </p:grpSpPr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8450280" y="0"/>
              <a:ext cx="47916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>
              <a:off x="8244000" y="579240"/>
              <a:ext cx="900000" cy="18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e di attenzione per il governo dell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zione formazione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a 2. Soggetti implicati nel governo dei processi form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2492280"/>
            <a:ext cx="82296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6920" y="1700280"/>
          <a:ext cx="7632720" cy="51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0280"/>
                    <a:ext cx="763272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" name=""/>
          <p:cNvGrpSpPr/>
          <p:nvPr/>
        </p:nvGrpSpPr>
        <p:grpSpPr>
          <a:xfrm>
            <a:off x="8244000" y="0"/>
            <a:ext cx="900000" cy="764640"/>
            <a:chOff x="8244000" y="0"/>
            <a:chExt cx="900000" cy="764640"/>
          </a:xfrm>
        </p:grpSpPr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8450280" y="0"/>
              <a:ext cx="47916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8244000" y="579240"/>
              <a:ext cx="900000" cy="18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7164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21920" y="404280"/>
            <a:ext cx="6202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ali esigenze e aree di atten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12480" y="1268280"/>
            <a:ext cx="663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Programmazione della 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28480" y="1924200"/>
          <a:ext cx="8147160" cy="4529160"/>
        </p:xfrm>
        <a:graphic>
          <a:graphicData uri="http://schemas.openxmlformats.org/drawingml/2006/table">
            <a:tbl>
              <a:tblPr/>
              <a:tblGrid>
                <a:gridCol w="2879640"/>
                <a:gridCol w="526752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ncipali esigenz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petti problemati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re la programmazione formativa con le strategie dell’e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ttivo coinvolgimento del vertice nelle scelte del Piano di formazione (partecipazione attiva del vertice o richiamo formale agli atti di programmazione strategica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re la programmazione formativa con le politiche di gestione delle R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zione tra formazione e carriere (es. frequenza ai corsi è punteggio per le progressioni orizzontali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zione tra valutazione e formazione (es. valutare le prestazioni è indirizzare i fabbisogni formativi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mare la formazione in coerenza con i processi di cambiamento nella 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re nuove modalità realizzative, più complesse ma più efficaci (es. formazione sullo “sportello unico” da programmare integrando destinatari di più Ent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ottare una visione organica delle risorse / attività di formazione per l’E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are a sistema dentro l’Ente le diverse opportunità di finanziamento / realizzazione di attività formative (es. il piano di formazione tiene conto delle risorse dei fondi strutturali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613560"/>
            <a:ext cx="1403280" cy="244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60156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8244000" y="0"/>
            <a:ext cx="900000" cy="764640"/>
            <a:chOff x="8244000" y="0"/>
            <a:chExt cx="900000" cy="764640"/>
          </a:xfrm>
        </p:grpSpPr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8450280" y="0"/>
              <a:ext cx="47916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"/>
            <a:stretch/>
          </p:blipFill>
          <p:spPr>
            <a:xfrm>
              <a:off x="8244000" y="579240"/>
              <a:ext cx="900000" cy="18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ali esigenze e aree di atten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92360" y="1238040"/>
            <a:ext cx="648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Gestione e monitoraggio del Piano form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55640" y="1814400"/>
          <a:ext cx="8147160" cy="4567320"/>
        </p:xfrm>
        <a:graphic>
          <a:graphicData uri="http://schemas.openxmlformats.org/drawingml/2006/table">
            <a:tbl>
              <a:tblPr/>
              <a:tblGrid>
                <a:gridCol w="2879640"/>
                <a:gridCol w="526752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ncipali esigenz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petti problemati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rantire la coerenza con quanto programmato, governando le “spinte” dei diversi soggetti in gio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umenti di verifica e intervento da parte del vertice / del responsabile dell’attuazione del pia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tione delle relazioni sindacali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ientare gli acquisti di formazione alle effettive necessit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za di eventuali vincoli o inerzie nell’acquisizione (si selezionano attivamente le opportunità dal mercato o si subisce l’offerta del mercato?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zionare correttame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partecipanti alle azioni formati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zzazione dei capi sull’uso della leva formativa (le adesioni ai corsi sono volontarie, soltanto autorizzat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 capi o definite direttamente dai capi?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are l’efficienz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tion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o del </a:t>
                      </a: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 delle risorse impiegate, rispetto dei temp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6613560"/>
            <a:ext cx="1403280" cy="24444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8244000" y="0"/>
            <a:ext cx="900000" cy="764640"/>
            <a:chOff x="8244000" y="0"/>
            <a:chExt cx="900000" cy="76464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8450280" y="0"/>
              <a:ext cx="47916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8244000" y="579240"/>
              <a:ext cx="900000" cy="18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7164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8840" y="565200"/>
            <a:ext cx="641988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ali esigenze e aree di atten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81200" y="1888920"/>
            <a:ext cx="706752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Valutazione ex-post della 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332000" y="2852640"/>
          <a:ext cx="7273800" cy="1647720"/>
        </p:xfrm>
        <a:graphic>
          <a:graphicData uri="http://schemas.openxmlformats.org/drawingml/2006/table">
            <a:tbl>
              <a:tblPr/>
              <a:tblGrid>
                <a:gridCol w="2724120"/>
                <a:gridCol w="45496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ncipali esigenz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petti problemat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re gli esiti delle attività formative per migliorare la successiva programmazi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zione di strumenti di verifica in grado di supportare efficacemente la programmazione successiv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600960"/>
            <a:ext cx="1476360" cy="257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5572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8244000" y="0"/>
            <a:ext cx="900000" cy="764640"/>
            <a:chOff x="8244000" y="0"/>
            <a:chExt cx="900000" cy="764640"/>
          </a:xfrm>
        </p:grpSpPr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8450280" y="0"/>
              <a:ext cx="47916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8244000" y="579240"/>
              <a:ext cx="900000" cy="18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ili rilevanti della programmazion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valutazione della form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7640" y="1412640"/>
            <a:ext cx="698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lità della form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iornamento 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k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iluppo profess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iluppo manage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pologie di destinat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ig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zion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ale di media qualif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 ulteriori possibili distinzioni per famiglia/profilo profess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uzioni gest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azione gestita “in economi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azione affidata all’esterno (a gara – ad affidamento diret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azione acquistata “a catalogo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alità e le metodologie form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cazione 1: aula / Project work / F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cazione 2: interna al settore / tra settori interna all’Ente 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 Enti diver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6613560"/>
            <a:ext cx="1403280" cy="244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55728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8244000" y="0"/>
            <a:ext cx="900000" cy="764640"/>
            <a:chOff x="8244000" y="0"/>
            <a:chExt cx="900000" cy="76464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8450280" y="0"/>
              <a:ext cx="47916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8244000" y="579240"/>
              <a:ext cx="900000" cy="18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empio di applic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2915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bella. Distribuzione delle risorse anno “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” per  FINALITA’ e DESTINATAR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1557360"/>
          <a:ext cx="8713800" cy="3619440"/>
        </p:xfrm>
        <a:graphic>
          <a:graphicData uri="http://schemas.openxmlformats.org/drawingml/2006/table">
            <a:tbl>
              <a:tblPr/>
              <a:tblGrid>
                <a:gridCol w="1519200"/>
                <a:gridCol w="1217520"/>
                <a:gridCol w="1628640"/>
                <a:gridCol w="1521000"/>
                <a:gridCol w="1325520"/>
                <a:gridCol w="15019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ità della forma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inata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giornamento e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viluppo professi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viluppo manage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igen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zion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ro persona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6613560"/>
            <a:ext cx="1403280" cy="244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55728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8244000" y="0"/>
            <a:ext cx="900000" cy="764640"/>
            <a:chOff x="8244000" y="0"/>
            <a:chExt cx="900000" cy="76464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8450280" y="0"/>
              <a:ext cx="47916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8244000" y="579240"/>
              <a:ext cx="900000" cy="18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3T19:30:38Z</dcterms:created>
  <dc:creator> Consorzio Mipa</dc:creator>
  <dc:description/>
  <dc:language>en-US</dc:language>
  <cp:lastModifiedBy>APOLIDE</cp:lastModifiedBy>
  <dcterms:modified xsi:type="dcterms:W3CDTF">2004-07-05T09:21:09Z</dcterms:modified>
  <cp:revision>37</cp:revision>
  <dc:subject/>
  <dc:title>Oggetto dell’incontro </dc:title>
</cp:coreProperties>
</file>