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6736-AACC-4060-8618-E3D1F0622C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1C12-EC05-41EB-8DBA-39D18BD6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B702-AAF5-4A57-9439-EFA7FE0E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3EEC-0BF0-4B22-A59B-0283BDC1FF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FAC51-6369-464F-ADD6-6F56E696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34AC3-B7DE-4E4A-8729-C6DD16CD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BB70E-154B-4085-93C7-C6EDB971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97F6C-7C74-4664-85A8-C739C0E7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D0F45-72CB-49B2-B9AD-B65249D2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AA908-CD92-4538-A3FE-18447508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21B1C-6735-4F2E-B9ED-FFB5B613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9871-1793-405B-B22E-4F6BA4B3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D31E4-1B53-47C9-8E32-6D9527F2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4581A-5E8F-4BA9-8981-4AC5AFF7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00CDA-7540-4EC2-A7AC-459F1AF4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678EB-7DE0-4BD4-B9D2-2821B192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3972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9364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3972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9364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6DAFA-E21C-40D9-8C40-6F9C0A6F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4641-B854-4F7F-9D23-C07F60CF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CF44-EC97-490A-9BD3-467FF70B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1C5D-816C-4DA2-9915-8563E2B7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7632-5E28-4ECF-903F-537A62F9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6E23-A867-492E-AF42-5183DD06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E9F7-57B4-4044-91BD-4213B207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07D2-892D-415E-8D32-D4BF1F63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21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51468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9431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1" marL="536400" indent="-28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2" marL="955800" indent="-228600">
              <a:spcBef>
                <a:spcPts val="601"/>
              </a:spcBef>
              <a:buClr>
                <a:srgbClr val="c9431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3" marL="1374840" indent="-228600">
              <a:spcBef>
                <a:spcPts val="601"/>
              </a:spcBef>
              <a:buClr>
                <a:srgbClr val="c94313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4" marL="1771560" indent="-206280">
              <a:spcBef>
                <a:spcPts val="601"/>
              </a:spcBef>
              <a:buClr>
                <a:srgbClr val="c9431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5" marL="1771560" indent="-206280">
              <a:spcBef>
                <a:spcPts val="60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6" marL="1771560" indent="-206280">
              <a:spcBef>
                <a:spcPts val="60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145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439320"/>
            <a:ext cx="5335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600" spc="-1" strike="noStrike">
                <a:solidFill>
                  <a:srgbClr val="ba3e1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DE7A-A4D2-4DBC-A81C-ED3D293FD5E7}" type="slidenum">
              <a:rPr b="1" lang="it-IT" sz="1600" spc="-1" strike="noStrike">
                <a:solidFill>
                  <a:srgbClr val="ba3e1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545160"/>
            <a:ext cx="76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ba3e12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ba3e12"/>
                </a:solidFill>
                <a:latin typeface="Arial"/>
              </a:rPr>
              <a:t>&lt;date/time&gt;</a:t>
            </a:r>
            <a:r>
              <a:rPr b="1" lang="it-IT" sz="1200" spc="-1" strike="noStrike">
                <a:solidFill>
                  <a:srgbClr val="ba3e12"/>
                </a:solidFill>
                <a:latin typeface="Arial"/>
              </a:rPr>
              <a:t>Monitoraggio e valutazione della formazione. Il Laboratorio del Dipartimento della Funzione Pubbl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456840" y="6368040"/>
            <a:ext cx="676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454C-737B-4EE4-AFC1-A8C6B44390D1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936720" y="211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21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0052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9528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391520" y="304920"/>
            <a:ext cx="1447560" cy="1218600"/>
            <a:chOff x="7391520" y="304920"/>
            <a:chExt cx="1447560" cy="121860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7723440" y="304920"/>
              <a:ext cx="77076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7391520" y="1227960"/>
              <a:ext cx="144756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38815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43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" name="logo LeA e pay off1" descr=""/>
          <p:cNvPicPr/>
          <p:nvPr/>
        </p:nvPicPr>
        <p:blipFill>
          <a:blip r:embed="rId5"/>
          <a:stretch/>
        </p:blipFill>
        <p:spPr>
          <a:xfrm>
            <a:off x="228600" y="519120"/>
            <a:ext cx="342900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70028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Monitoraggio e valutazione </a:t>
            </a:r>
            <a:br>
              <a:rPr sz="2800"/>
            </a:b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della formazione </a:t>
            </a:r>
            <a:br>
              <a:rPr sz="2800"/>
            </a:br>
            <a:r>
              <a:rPr b="0" lang="it-IT" sz="2600" spc="-1" strike="noStrike">
                <a:solidFill>
                  <a:srgbClr val="003366"/>
                </a:solidFill>
                <a:latin typeface="Arial"/>
              </a:rPr>
              <a:t>Il Laboratorio del Dipartimento della </a:t>
            </a:r>
            <a:br>
              <a:rPr sz="2600"/>
            </a:br>
            <a:r>
              <a:rPr b="0" lang="it-IT" sz="2600" spc="-1" strike="noStrike">
                <a:solidFill>
                  <a:srgbClr val="003366"/>
                </a:solidFill>
                <a:latin typeface="Arial"/>
              </a:rPr>
              <a:t>Funzione Pubblica</a:t>
            </a: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76400" y="5300640"/>
            <a:ext cx="5943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Roma, giovedì 10 giugno 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Via Cavour 50/a, sala Aventino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54288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8172360" y="0"/>
            <a:ext cx="971640" cy="764640"/>
            <a:chOff x="8172360" y="0"/>
            <a:chExt cx="971640" cy="76464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8395200" y="0"/>
              <a:ext cx="5173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8172360" y="579240"/>
              <a:ext cx="971640" cy="18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236000" y="6524640"/>
            <a:ext cx="19080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403200"/>
            <a:ext cx="82803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igenze e aree di attenzione: valutazione ex-post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03280" y="1916280"/>
          <a:ext cx="6937560" cy="1742760"/>
        </p:xfrm>
        <a:graphic>
          <a:graphicData uri="http://schemas.openxmlformats.org/drawingml/2006/table">
            <a:tbl>
              <a:tblPr/>
              <a:tblGrid>
                <a:gridCol w="2592360"/>
                <a:gridCol w="4345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rincipali esigenze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spetti problematic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84360" y="1628640"/>
            <a:ext cx="64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3.  Valutazione della formazio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8720" y="2781360"/>
            <a:ext cx="31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Verificare gli esiti delle attività formative per migliorare la successiva program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278136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efinizione di strumenti di verifica in grado di supportare efficacemente la programmazione della successiva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ariabili rilevanti: programmazione e valutazione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632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Finalità della formazione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nserime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ggiornamento e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ski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viluppo profession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viluppo manageri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Destinatar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dirigen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funzionar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ersonale di media qualific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... ulteriori possibili distinzioni per famiglia/profilo professionale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Soluzioni gestionali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formazione gestita “in economia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formazione affidata all’esterno (a gara – ad affidamento dirett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formazione acquistata “a catalogo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Modalità e le metodologie formati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lassificazione 1: aula / Project work / F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lassificazione 2: interna al settore / tra settori interna all’Ente /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tra Enti divers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341360"/>
            <a:ext cx="784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Riassu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ncontro dei Direttori del personale e della funzione formazione (</a:t>
            </a:r>
            <a:r>
              <a:rPr b="0" sz="2000" spc="-1" strike="noStrike">
                <a:solidFill>
                  <a:srgbClr val="003366"/>
                </a:solidFill>
                <a:latin typeface="Arial"/>
              </a:rPr>
              <a:t>Audioconferenza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el 28 maggio 200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ercorso di lavoro, gennaio </a:t>
            </a:r>
            <a:r>
              <a:rPr b="0" lang="it-IT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dicembre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Modello di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overnanc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della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gettazione delle metodologie di programmazione e valutazione: Piano della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ssimi incontri di Laboratorio: 17 e 24 giugno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54936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emi di ogg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98560" y="323064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pprofondi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900000" y="1989000"/>
            <a:ext cx="1800360" cy="1295640"/>
            <a:chOff x="900000" y="1989000"/>
            <a:chExt cx="1800360" cy="1295640"/>
          </a:xfrm>
        </p:grpSpPr>
        <p:sp>
          <p:nvSpPr>
            <p:cNvPr id="182" name=""/>
            <p:cNvSpPr/>
            <p:nvPr/>
          </p:nvSpPr>
          <p:spPr>
            <a:xfrm>
              <a:off x="906480" y="1989000"/>
              <a:ext cx="1722600" cy="1295640"/>
            </a:xfrm>
            <a:prstGeom prst="rect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00000" y="2276640"/>
              <a:ext cx="1800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Arial"/>
                </a:rPr>
                <a:t>Ricognizi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771640" y="1989000"/>
            <a:ext cx="1728720" cy="1295640"/>
            <a:chOff x="2771640" y="1989000"/>
            <a:chExt cx="1728720" cy="1295640"/>
          </a:xfrm>
        </p:grpSpPr>
        <p:sp>
          <p:nvSpPr>
            <p:cNvPr id="185" name=""/>
            <p:cNvSpPr/>
            <p:nvPr/>
          </p:nvSpPr>
          <p:spPr>
            <a:xfrm>
              <a:off x="2771640" y="1989000"/>
              <a:ext cx="1657080" cy="1295640"/>
            </a:xfrm>
            <a:prstGeom prst="rect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71640" y="2276640"/>
              <a:ext cx="1728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Arial"/>
                </a:rPr>
                <a:t>Progettazi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572000" y="1989000"/>
            <a:ext cx="2089080" cy="1295640"/>
            <a:chOff x="4572000" y="1989000"/>
            <a:chExt cx="2089080" cy="1295640"/>
          </a:xfrm>
        </p:grpSpPr>
        <p:sp>
          <p:nvSpPr>
            <p:cNvPr id="188" name=""/>
            <p:cNvSpPr/>
            <p:nvPr/>
          </p:nvSpPr>
          <p:spPr>
            <a:xfrm>
              <a:off x="4572000" y="1989000"/>
              <a:ext cx="2017800" cy="1295640"/>
            </a:xfrm>
            <a:prstGeom prst="rect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3800" y="2276640"/>
              <a:ext cx="20872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Arial"/>
                </a:rPr>
                <a:t>Sperimentazi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659640" y="1989000"/>
            <a:ext cx="2016000" cy="1295640"/>
            <a:chOff x="6659640" y="1989000"/>
            <a:chExt cx="2016000" cy="1295640"/>
          </a:xfrm>
        </p:grpSpPr>
        <p:sp>
          <p:nvSpPr>
            <p:cNvPr id="191" name=""/>
            <p:cNvSpPr/>
            <p:nvPr/>
          </p:nvSpPr>
          <p:spPr>
            <a:xfrm>
              <a:off x="6732720" y="1989000"/>
              <a:ext cx="1873080" cy="1295640"/>
            </a:xfrm>
            <a:prstGeom prst="rect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59640" y="2297160"/>
              <a:ext cx="2016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Arial"/>
                </a:rPr>
                <a:t>Formalizzazi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50920" y="260280"/>
            <a:ext cx="8713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B. Percorso di lavoro: tempi, fasi, prodotti attesi</a:t>
            </a:r>
            <a:r>
              <a:rPr b="1" lang="it-IT" sz="2600" spc="-1" strike="noStrike">
                <a:solidFill>
                  <a:srgbClr val="c9431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1125360"/>
            <a:ext cx="3384720" cy="72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gennaio – marzo – giugno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0560" y="1125360"/>
            <a:ext cx="20174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luglio  settemb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32720" y="1125360"/>
            <a:ext cx="187308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ottobre dicemb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-45000" y="4882320"/>
            <a:ext cx="932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47640" y="3068640"/>
            <a:ext cx="576360" cy="863640"/>
          </a:xfrm>
          <a:prstGeom prst="downArrow">
            <a:avLst>
              <a:gd name="adj1" fmla="val 53898"/>
              <a:gd name="adj2" fmla="val 68588"/>
            </a:avLst>
          </a:prstGeom>
          <a:gradFill rotWithShape="0">
            <a:gsLst>
              <a:gs pos="0">
                <a:srgbClr val="008080"/>
              </a:gs>
              <a:gs pos="100000">
                <a:srgbClr val="99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14040" y="1381680"/>
            <a:ext cx="85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Temp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122400" y="2650680"/>
            <a:ext cx="637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Fas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900000" y="3933720"/>
            <a:ext cx="1729080" cy="223200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Pratiche di </a:t>
            </a:r>
            <a:r>
              <a:rPr b="0" sz="18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governance</a:t>
            </a:r>
            <a:r>
              <a:rPr b="0" sz="18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it-IT" sz="18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della formazi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71640" y="3933720"/>
            <a:ext cx="1657440" cy="223200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3366"/>
                </a:solidFill>
                <a:uFillTx/>
                <a:latin typeface="Arial"/>
              </a:rPr>
              <a:t>B</a:t>
            </a:r>
            <a:r>
              <a:rPr b="0" lang="it-IT" sz="18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ozza dell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Gu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0560" y="3933720"/>
            <a:ext cx="2017440" cy="223200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Correttivi e aggiustamen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32720" y="3933720"/>
            <a:ext cx="1873080" cy="223200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GU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4920" y="3068640"/>
            <a:ext cx="576360" cy="863640"/>
          </a:xfrm>
          <a:prstGeom prst="downArrow">
            <a:avLst>
              <a:gd name="adj1" fmla="val 53898"/>
              <a:gd name="adj2" fmla="val 68588"/>
            </a:avLst>
          </a:prstGeom>
          <a:gradFill rotWithShape="0">
            <a:gsLst>
              <a:gs pos="0">
                <a:srgbClr val="008080"/>
              </a:gs>
              <a:gs pos="100000">
                <a:srgbClr val="99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3068640"/>
            <a:ext cx="576360" cy="863640"/>
          </a:xfrm>
          <a:prstGeom prst="downArrow">
            <a:avLst>
              <a:gd name="adj1" fmla="val 53898"/>
              <a:gd name="adj2" fmla="val 68588"/>
            </a:avLst>
          </a:prstGeom>
          <a:gradFill rotWithShape="0">
            <a:gsLst>
              <a:gs pos="0">
                <a:srgbClr val="008080"/>
              </a:gs>
              <a:gs pos="100000">
                <a:srgbClr val="99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80360" y="3068640"/>
            <a:ext cx="576360" cy="863640"/>
          </a:xfrm>
          <a:prstGeom prst="downArrow">
            <a:avLst>
              <a:gd name="adj1" fmla="val 53898"/>
              <a:gd name="adj2" fmla="val 68588"/>
            </a:avLst>
          </a:prstGeom>
          <a:gradFill rotWithShape="0">
            <a:gsLst>
              <a:gs pos="0">
                <a:srgbClr val="008080"/>
              </a:gs>
              <a:gs pos="100000">
                <a:srgbClr val="99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Pratiche di </a:t>
            </a:r>
            <a:r>
              <a:rPr b="0" sz="28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governance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 della formazione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907920"/>
            <a:ext cx="6769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6 casi riconducibili a 3 modell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1628640"/>
            <a:ext cx="216072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Agenzie fiscali: Dogane, Territorio, Entr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98560" y="3440160"/>
            <a:ext cx="2160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Beni cultural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Giustiz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1413000"/>
            <a:ext cx="4753080" cy="17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Esperienze nelle quali si sperimentano modelli di “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cambiamento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”: stretta connessione tra obiettivi strategici e formazione, sistemi informativi efficienti, modello delle competenze, certificazione di qualità del sistema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3357720"/>
            <a:ext cx="475308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Esperienze consolidate che danno origine ad un modello “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tradizional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”, sensibile agli effetti della cultura organizzati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5095800"/>
            <a:ext cx="215928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Attività produtti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4280"/>
            <a:ext cx="4753080" cy="172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Esperienza di un’amministrazione in “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transizion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”, nella quale coesistono i due precedenti Ministeri, si centralizza l’indirizzo strategico, successo del sistema di gestione delle relazioni inter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32000" y="2276640"/>
            <a:ext cx="863640" cy="0"/>
          </a:xfrm>
          <a:prstGeom prst="line">
            <a:avLst/>
          </a:prstGeom>
          <a:ln w="572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32000" y="3933720"/>
            <a:ext cx="863640" cy="0"/>
          </a:xfrm>
          <a:prstGeom prst="line">
            <a:avLst/>
          </a:prstGeom>
          <a:ln w="572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2000" y="5589720"/>
            <a:ext cx="863640" cy="0"/>
          </a:xfrm>
          <a:prstGeom prst="line">
            <a:avLst/>
          </a:prstGeom>
          <a:ln w="572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3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Prima bozza della Guida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60440" y="1341360"/>
            <a:ext cx="731520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1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rte prima: contesto e tendenze in atto nelle P.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1.1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iforma della P.A. e  processi di innov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1.2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Gestione delle risorse uma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1.3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Form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2</a:t>
            </a:r>
            <a:r>
              <a:rPr b="1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rte seconda: modello di riferime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2.1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La </a:t>
            </a:r>
            <a:r>
              <a:rPr b="0" i="1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governance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lla formazione: descrizione del proble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2.2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Le variabili di riferimento del modell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2.3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Gli ambiti per lo sviluppo delle metodologi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2.4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intesi problematiche/ambiti/variabili di riferime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3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rte terza: metodologi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3.1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iano della formazione (ciclo di primo livell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3.2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alutazione delle azioni formative (ciclo di secondo livell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3.3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istema informativo a suppor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4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rte quarta: strumenti operativi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4.1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iano della formazione (ciclo di primo livell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4.2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alutazione delle azioni formative (ciclo di secondo livell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6400" indent="-536400">
              <a:tabLst>
                <a:tab algn="l" pos="0"/>
                <a:tab algn="r" pos="900000"/>
                <a:tab algn="r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11280" y="404640"/>
            <a:ext cx="770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100000"/>
              </a:lnSpc>
              <a:spcBef>
                <a:spcPts val="17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Modello di </a:t>
            </a: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governance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ella 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1042560" y="1196640"/>
            <a:ext cx="178452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6920" y="1341360"/>
            <a:ext cx="230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Programm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37040" y="1289160"/>
            <a:ext cx="1795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Progett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6084720" y="1196640"/>
            <a:ext cx="2276640" cy="59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88000" y="1290600"/>
            <a:ext cx="2592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Valut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4410000" y="-1593720"/>
            <a:ext cx="936720" cy="781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4409280" y="-656280"/>
            <a:ext cx="1008000" cy="781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4359240" y="401400"/>
            <a:ext cx="1108080" cy="781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4337640" y="1539000"/>
            <a:ext cx="1150920" cy="781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9480" y="2018160"/>
            <a:ext cx="1511280" cy="532440"/>
          </a:xfrm>
          <a:prstGeom prst="flowChartProcess">
            <a:avLst/>
          </a:prstGeom>
          <a:gradFill rotWithShape="0">
            <a:gsLst>
              <a:gs pos="0">
                <a:srgbClr val="99cc99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f0501"/>
                </a:solidFill>
                <a:latin typeface="Arial"/>
              </a:rPr>
              <a:t>Fabbisogni formativ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3385080"/>
            <a:ext cx="1439640" cy="532440"/>
          </a:xfrm>
          <a:prstGeom prst="flowChartProcess">
            <a:avLst/>
          </a:prstGeom>
          <a:gradFill rotWithShape="0">
            <a:gsLst>
              <a:gs pos="0">
                <a:srgbClr val="99cc99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f0501"/>
                </a:solidFill>
                <a:latin typeface="Arial"/>
              </a:rPr>
              <a:t>Piano form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2040" y="4548600"/>
            <a:ext cx="1690560" cy="532440"/>
          </a:xfrm>
          <a:prstGeom prst="flowChartProcess">
            <a:avLst/>
          </a:prstGeom>
          <a:gradFill rotWithShape="0">
            <a:gsLst>
              <a:gs pos="0">
                <a:srgbClr val="99cc99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f0501"/>
                </a:solidFill>
                <a:latin typeface="Arial"/>
              </a:rPr>
              <a:t>Valutazione in itine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8200" y="5529240"/>
            <a:ext cx="1657440" cy="563760"/>
          </a:xfrm>
          <a:prstGeom prst="flowChartProcess">
            <a:avLst/>
          </a:prstGeom>
          <a:gradFill rotWithShape="0">
            <a:gsLst>
              <a:gs pos="0">
                <a:srgbClr val="99cc99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f0501"/>
                </a:solidFill>
                <a:latin typeface="Arial"/>
              </a:rPr>
              <a:t>Valutazi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f0501"/>
                </a:solidFill>
                <a:latin typeface="Arial"/>
              </a:rPr>
              <a:t>ex p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59280" y="1809720"/>
            <a:ext cx="0" cy="41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1700280"/>
            <a:ext cx="9144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32360" y="127800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Erog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0800000">
            <a:off x="2817360" y="1195560"/>
            <a:ext cx="15130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4356000" y="1195560"/>
            <a:ext cx="168120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00" y="2050920"/>
            <a:ext cx="93672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28/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10/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4964040"/>
            <a:ext cx="7700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17/6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24/6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920" y="3357720"/>
            <a:ext cx="100800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10/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1" idx="2"/>
            <a:endCxn id="232" idx="1"/>
          </p:cNvCxnSpPr>
          <p:nvPr/>
        </p:nvCxnSpPr>
        <p:spPr>
          <a:xfrm flipH="1" rot="16200000">
            <a:off x="2042280" y="2416320"/>
            <a:ext cx="109764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2" idx="2"/>
            <a:endCxn id="233" idx="1"/>
          </p:cNvCxnSpPr>
          <p:nvPr/>
        </p:nvCxnSpPr>
        <p:spPr>
          <a:xfrm flipH="1" rot="16200000">
            <a:off x="4086720" y="3830400"/>
            <a:ext cx="894600" cy="1075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2"/>
            <a:endCxn id="234" idx="1"/>
          </p:cNvCxnSpPr>
          <p:nvPr/>
        </p:nvCxnSpPr>
        <p:spPr>
          <a:xfrm flipH="1" rot="16200000">
            <a:off x="6104520" y="4897800"/>
            <a:ext cx="727560" cy="1100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916360" y="2060640"/>
            <a:ext cx="2376360" cy="649080"/>
          </a:xfrm>
          <a:prstGeom prst="wedgeRectCallout">
            <a:avLst>
              <a:gd name="adj1" fmla="val -58351"/>
              <a:gd name="adj2" fmla="val -10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zione strateg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 e cos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general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867280" y="1999080"/>
            <a:ext cx="3097440" cy="2305080"/>
          </a:xfrm>
          <a:prstGeom prst="wedgeRectCallout">
            <a:avLst>
              <a:gd name="adj1" fmla="val -86037"/>
              <a:gd name="adj2" fmla="val -216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ttiv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modalità e dimensioni degli interventi, dimensioni e tipologie formative, strutturazione didattica, 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gistica e strum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gestione,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inizione partecipa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fornitori, calcolo di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 e cos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nalitic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0" y="4365720"/>
            <a:ext cx="9144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-36360" y="6308640"/>
            <a:ext cx="9144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80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A Processo di programmazione e progettazione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3081240"/>
            <a:ext cx="1079640" cy="14414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8" y="0"/>
                </a:lnTo>
                <a:lnTo>
                  <a:pt x="21600" y="10800"/>
                </a:lnTo>
                <a:lnTo>
                  <a:pt x="1834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cc99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0501"/>
                </a:solidFill>
                <a:latin typeface="Arial"/>
              </a:rPr>
              <a:t>Schede d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f0501"/>
                </a:solidFill>
                <a:latin typeface="Arial"/>
              </a:rPr>
              <a:t>Pre-prog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f0501"/>
                </a:solidFill>
                <a:latin typeface="Arial"/>
              </a:rPr>
              <a:t>t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42920" y="3083040"/>
            <a:ext cx="1728720" cy="143964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03" y="0"/>
                </a:lnTo>
                <a:lnTo>
                  <a:pt x="21600" y="10800"/>
                </a:lnTo>
                <a:lnTo>
                  <a:pt x="19003" y="21600"/>
                </a:lnTo>
                <a:lnTo>
                  <a:pt x="0" y="21600"/>
                </a:lnTo>
                <a:lnTo>
                  <a:pt x="2597" y="10800"/>
                </a:lnTo>
                <a:close/>
              </a:path>
            </a:pathLst>
          </a:custGeom>
          <a:gradFill rotWithShape="0">
            <a:gsLst>
              <a:gs pos="0">
                <a:srgbClr val="99cc99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0501"/>
                </a:solidFill>
                <a:latin typeface="Arial"/>
              </a:rPr>
              <a:t>Integrazione bisogn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0501"/>
                </a:solidFill>
                <a:latin typeface="Arial"/>
              </a:rPr>
              <a:t>unità periferic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11280" y="3083040"/>
            <a:ext cx="1644840" cy="143964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68" y="0"/>
                </a:lnTo>
                <a:lnTo>
                  <a:pt x="21600" y="10800"/>
                </a:lnTo>
                <a:lnTo>
                  <a:pt x="18968" y="21600"/>
                </a:lnTo>
                <a:lnTo>
                  <a:pt x="0" y="21600"/>
                </a:lnTo>
                <a:lnTo>
                  <a:pt x="2632" y="10800"/>
                </a:lnTo>
                <a:close/>
              </a:path>
            </a:pathLst>
          </a:custGeom>
          <a:gradFill rotWithShape="0">
            <a:gsLst>
              <a:gs pos="0">
                <a:srgbClr val="99cc99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0501"/>
                </a:solidFill>
                <a:latin typeface="Arial"/>
              </a:rPr>
              <a:t>Prim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0501"/>
                </a:solidFill>
                <a:latin typeface="Arial"/>
              </a:rPr>
              <a:t>analis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0501"/>
                </a:solidFill>
                <a:latin typeface="Arial"/>
              </a:rPr>
              <a:t>della  doman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80000" y="3083040"/>
            <a:ext cx="1439640" cy="14396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82" y="0"/>
                </a:lnTo>
                <a:lnTo>
                  <a:pt x="21600" y="10800"/>
                </a:lnTo>
                <a:lnTo>
                  <a:pt x="18882" y="21600"/>
                </a:lnTo>
                <a:lnTo>
                  <a:pt x="0" y="21600"/>
                </a:lnTo>
                <a:lnTo>
                  <a:pt x="2718" y="10800"/>
                </a:lnTo>
                <a:close/>
              </a:path>
            </a:pathLst>
          </a:custGeom>
          <a:gradFill rotWithShape="0">
            <a:gsLst>
              <a:gs pos="0">
                <a:srgbClr val="99cc99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0501"/>
                </a:solidFill>
                <a:latin typeface="Arial"/>
              </a:rPr>
              <a:t>Bozza del Piano annu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06880" y="3083040"/>
            <a:ext cx="1652760" cy="143964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06" y="0"/>
                </a:lnTo>
                <a:lnTo>
                  <a:pt x="21600" y="10800"/>
                </a:lnTo>
                <a:lnTo>
                  <a:pt x="19106" y="21600"/>
                </a:lnTo>
                <a:lnTo>
                  <a:pt x="0" y="21600"/>
                </a:lnTo>
                <a:lnTo>
                  <a:pt x="2494" y="10800"/>
                </a:lnTo>
                <a:close/>
              </a:path>
            </a:pathLst>
          </a:custGeom>
          <a:gradFill rotWithShape="0">
            <a:gsLst>
              <a:gs pos="0">
                <a:srgbClr val="99cc99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9200" indent="-79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0501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f0501"/>
                </a:solidFill>
                <a:latin typeface="Arial"/>
              </a:rPr>
              <a:t>Allineam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79200" indent="-79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f0501"/>
                </a:solidFill>
                <a:latin typeface="Arial"/>
              </a:rPr>
              <a:t>to</a:t>
            </a:r>
            <a:r>
              <a:rPr b="0" lang="it-IT" sz="1800" spc="-1" strike="noStrike">
                <a:solidFill>
                  <a:srgbClr val="0f0501"/>
                </a:solidFill>
                <a:latin typeface="Arial"/>
              </a:rPr>
              <a:t> agli indirizzi strategic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00720" y="3083040"/>
            <a:ext cx="1325520" cy="143964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78" y="0"/>
                </a:lnTo>
                <a:lnTo>
                  <a:pt x="21600" y="10800"/>
                </a:lnTo>
                <a:lnTo>
                  <a:pt x="18378" y="21600"/>
                </a:lnTo>
                <a:lnTo>
                  <a:pt x="0" y="21600"/>
                </a:lnTo>
                <a:lnTo>
                  <a:pt x="3222" y="10800"/>
                </a:lnTo>
                <a:close/>
              </a:path>
            </a:pathLst>
          </a:custGeom>
          <a:gradFill rotWithShape="0">
            <a:gsLst>
              <a:gs pos="0">
                <a:srgbClr val="99cc99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9200" indent="-79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0501"/>
                </a:solidFill>
                <a:latin typeface="Arial"/>
              </a:rPr>
              <a:t>Verifica   bozza di Pia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2606760"/>
            <a:ext cx="1297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0501"/>
                </a:solidFill>
                <a:latin typeface="Arial"/>
              </a:rPr>
              <a:t>Referenti regional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71760" y="2595600"/>
            <a:ext cx="1297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0501"/>
                </a:solidFill>
                <a:latin typeface="Arial"/>
              </a:rPr>
              <a:t>Ufficio centra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73680" y="2606760"/>
            <a:ext cx="1297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0501"/>
                </a:solidFill>
                <a:latin typeface="Arial"/>
              </a:rPr>
              <a:t>Ufficio del persona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64360" y="2430360"/>
            <a:ext cx="23493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0501"/>
                </a:solidFill>
                <a:latin typeface="Arial"/>
              </a:rPr>
              <a:t>- D.G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0501"/>
                </a:solidFill>
                <a:latin typeface="Arial"/>
              </a:rPr>
              <a:t>- Dir. persona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0501"/>
                </a:solidFill>
                <a:latin typeface="Arial"/>
              </a:rPr>
              <a:t>- Comitato direttivo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03640" y="5919840"/>
            <a:ext cx="23050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0501"/>
                </a:solidFill>
                <a:latin typeface="Arial"/>
              </a:rPr>
              <a:t>- Sindacat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0501"/>
                </a:solidFill>
                <a:latin typeface="Arial"/>
              </a:rPr>
              <a:t>- RSU, </a:t>
            </a:r>
            <a:r>
              <a:rPr b="1" sz="1600" spc="-1" strike="noStrike">
                <a:solidFill>
                  <a:srgbClr val="0f0501"/>
                </a:solidFill>
                <a:latin typeface="Arial"/>
              </a:rPr>
              <a:t>OO.SS</a:t>
            </a:r>
            <a:r>
              <a:rPr b="1" lang="it-IT" sz="1600" spc="-1" strike="noStrike">
                <a:solidFill>
                  <a:srgbClr val="0f050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0501"/>
                </a:solidFill>
                <a:latin typeface="Arial"/>
              </a:rPr>
              <a:t>- Strutture territorial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56" idx="0"/>
            <a:endCxn id="263" idx="0"/>
          </p:cNvCxnSpPr>
          <p:nvPr/>
        </p:nvCxnSpPr>
        <p:spPr>
          <a:xfrm flipH="1" rot="16200000">
            <a:off x="6692040" y="4694760"/>
            <a:ext cx="347040" cy="2160"/>
          </a:xfrm>
          <a:prstGeom prst="bentConnector3">
            <a:avLst>
              <a:gd name="adj1" fmla="val 49948"/>
            </a:avLst>
          </a:prstGeom>
          <a:ln w="9360">
            <a:solidFill>
              <a:srgbClr val="006666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63" idx="1"/>
            <a:endCxn id="255" idx="0"/>
          </p:cNvCxnSpPr>
          <p:nvPr/>
        </p:nvCxnSpPr>
        <p:spPr>
          <a:xfrm rot="10800000">
            <a:off x="5736600" y="4521960"/>
            <a:ext cx="244800" cy="1067760"/>
          </a:xfrm>
          <a:prstGeom prst="bentConnector2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740720" y="3213000"/>
            <a:ext cx="1258920" cy="1079640"/>
          </a:xfrm>
          <a:prstGeom prst="rect">
            <a:avLst/>
          </a:prstGeom>
          <a:gradFill rotWithShape="0">
            <a:gsLst>
              <a:gs pos="0">
                <a:srgbClr val="99cc99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f0501"/>
                </a:solidFill>
                <a:latin typeface="Arial"/>
              </a:rPr>
              <a:t>Piano esecu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49360" y="944640"/>
            <a:ext cx="4667040" cy="123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52" y="2006"/>
                </a:moveTo>
                <a:lnTo>
                  <a:pt x="23319" y="2006"/>
                </a:lnTo>
                <a:lnTo>
                  <a:pt x="23319" y="21572"/>
                </a:lnTo>
                <a:lnTo>
                  <a:pt x="23186" y="35089"/>
                </a:lnTo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0501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2160">
              <a:lnSpc>
                <a:spcPct val="95000"/>
              </a:lnSpc>
              <a:buClr>
                <a:srgbClr val="0f05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0501"/>
                </a:solidFill>
                <a:latin typeface="Arial"/>
              </a:rPr>
              <a:t>P.F. annualità precedent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2160">
              <a:lnSpc>
                <a:spcPct val="80000"/>
              </a:lnSpc>
              <a:buClr>
                <a:srgbClr val="0f05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Precedente analisi dei bisogni formativ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2160">
              <a:lnSpc>
                <a:spcPct val="80000"/>
              </a:lnSpc>
              <a:buClr>
                <a:srgbClr val="0f05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Accordi sindacal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2160">
              <a:lnSpc>
                <a:spcPct val="80000"/>
              </a:lnSpc>
              <a:buClr>
                <a:srgbClr val="0f05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Valutazione dei Dirigent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2606760"/>
            <a:ext cx="1297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0501"/>
                </a:solidFill>
                <a:latin typeface="Arial"/>
              </a:rPr>
              <a:t>Ufficio centra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81760" y="4869000"/>
            <a:ext cx="1766880" cy="1439640"/>
          </a:xfrm>
          <a:prstGeom prst="flowChartDecision">
            <a:avLst/>
          </a:prstGeom>
          <a:gradFill rotWithShape="0">
            <a:gsLst>
              <a:gs pos="0">
                <a:srgbClr val="99cc99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0501"/>
                </a:solidFill>
                <a:latin typeface="Arial"/>
              </a:rPr>
              <a:t>Informativa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0501"/>
                </a:solidFill>
                <a:latin typeface="Arial"/>
              </a:rPr>
              <a:t>Negoziazione?</a:t>
            </a:r>
            <a:r>
              <a:rPr b="1" lang="it-IT" sz="1400" spc="-1" strike="noStrike">
                <a:solidFill>
                  <a:srgbClr val="0f050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8" name=""/>
          <p:cNvCxnSpPr>
            <a:stCxn id="263" idx="3"/>
            <a:endCxn id="265" idx="2"/>
          </p:cNvCxnSpPr>
          <p:nvPr/>
        </p:nvCxnSpPr>
        <p:spPr>
          <a:xfrm flipV="1">
            <a:off x="7748640" y="4291920"/>
            <a:ext cx="622800" cy="1297800"/>
          </a:xfrm>
          <a:prstGeom prst="bentConnector2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5219640" y="5183280"/>
            <a:ext cx="432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f0501"/>
                </a:solidFill>
                <a:uFillTx/>
                <a:latin typeface="Arial"/>
              </a:rPr>
              <a:t>N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740720" y="5157720"/>
            <a:ext cx="431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f0501"/>
                </a:solidFill>
                <a:uFillTx/>
                <a:latin typeface="Arial"/>
              </a:rPr>
              <a:t>S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484360" y="4795920"/>
            <a:ext cx="1835280" cy="1009440"/>
          </a:xfrm>
          <a:prstGeom prst="borderCallout1">
            <a:avLst>
              <a:gd name="adj1" fmla="val -897"/>
              <a:gd name="adj2" fmla="val -6046"/>
              <a:gd name="adj3" fmla="val -897"/>
              <a:gd name="adj4" fmla="val 19154"/>
            </a:avLst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0501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2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0501"/>
                </a:solidFill>
                <a:latin typeface="Arial"/>
              </a:rPr>
              <a:t>Bozza di Piano annuale della form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Analisi dei fabbisogni formativi 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1701720"/>
            <a:ext cx="561672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800" y="1701720"/>
            <a:ext cx="269892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8800" y="2276640"/>
            <a:ext cx="2314440" cy="31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Indagini di cam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440" y="3306600"/>
            <a:ext cx="2773440" cy="31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Indirizzo strategic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8320" y="4508640"/>
            <a:ext cx="2508480" cy="31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3366"/>
                </a:solidFill>
                <a:latin typeface="Arial"/>
              </a:rPr>
              <a:t>Auto-valut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1080" y="3213000"/>
            <a:ext cx="5543640" cy="53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nalisi degli indirizzi contenuti nelle direttive annuali di vertice sulle priorità di cambiamento/adeguame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3213000"/>
            <a:ext cx="82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4149720"/>
            <a:ext cx="82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21080" y="4221000"/>
            <a:ext cx="5543640" cy="1190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onsultazione dei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decision maker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- direttori general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- dirigenti e quadr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- referenti territorial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21080" y="1917720"/>
            <a:ext cx="5472000" cy="75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ndagini conoscitive dei fabbisogni secondo un approccio </a:t>
            </a:r>
            <a:r>
              <a:rPr b="0" i="1" sz="1800" spc="-1" strike="noStrike">
                <a:solidFill>
                  <a:srgbClr val="003366"/>
                </a:solidFill>
                <a:latin typeface="Arial"/>
              </a:rPr>
              <a:t>bottom up</a:t>
            </a:r>
            <a:r>
              <a:rPr b="0" sz="1800" spc="-1" strike="noStrike">
                <a:solidFill>
                  <a:srgbClr val="003366"/>
                </a:solidFill>
                <a:latin typeface="Arial"/>
              </a:rPr>
              <a:t> e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diagnosi degli scostamenti dagli standard obiettivo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6560" y="1197000"/>
            <a:ext cx="2698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Tipologie di interve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19640" y="1197000"/>
            <a:ext cx="5040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Modalità di interve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5445000"/>
            <a:ext cx="82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2560" y="5661000"/>
            <a:ext cx="2376720" cy="53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Valutazione  della form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5661000"/>
            <a:ext cx="5040000" cy="53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Feed back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sulla formazione erogata nell’anno - triennio preced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88560" y="54900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Accordi sindacali sulla formazione 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58920" y="1628640"/>
            <a:ext cx="626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22560" y="2565360"/>
            <a:ext cx="5329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Il caso dell’Agenzia del Territorio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: il 7 giugno 2004 è stato firmato il Protocollo d’intesa sul Piano di formazione 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333360"/>
            <a:ext cx="31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ram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270080"/>
            <a:ext cx="8137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Modello di riferimento per la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governance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della forma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2651040"/>
            <a:ext cx="806472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0033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Arial"/>
              </a:rPr>
              <a:t>Progettazione delle metodologie di programmazione e valutazione della formazione: predisposizione e gestione del Piano della forma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57992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0033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Arial"/>
              </a:rPr>
              <a:t>Progettazione delle metodologie di programmazione e valutazione della formazione, gli incontri del 17 e 24 giugno 200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582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alutazione dei dirigenti 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22560" y="2924280"/>
            <a:ext cx="532908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Il caso dell’Agenzia delle Entrate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: direzione del personale basata sul modello delle competenz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B Aspetti critici della fase di programmazione e progettazione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32000" y="1268280"/>
            <a:ext cx="5040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Temp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58920" y="2637000"/>
            <a:ext cx="6265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Criteri di scel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58920" y="5084640"/>
            <a:ext cx="6985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Risorse uma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90560" y="1628640"/>
            <a:ext cx="69138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luralità di soggetti che intervengono nei processi decisional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olteplicità di momenti decisionali chia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92360" y="2997360"/>
            <a:ext cx="705636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Ex ante o ex post: intervento a monte o a valle del percorso di formalizzazione del piano formativo (programmazione/progettazion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Definizione delle modalità dell’intervento (informazione/negoziazione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Definizione dei criteri di accesso alla formazione (accordi sindacali/ scelta dei dirigent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90560" y="5491080"/>
            <a:ext cx="7345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Referenti della formazione/formatori interni: coordinamento e integrazione, mantenimento delle competenze, omolog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05080" y="1989000"/>
            <a:ext cx="6697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Risorse finanziar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03280" y="3767040"/>
            <a:ext cx="6697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Sistema di relazio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6560" y="2325600"/>
            <a:ext cx="69134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Verifica della copertura finanziaria dell’intervento (ex ant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Razionalizzazione della spesa (ex ante ex pos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79640" y="4125960"/>
            <a:ext cx="691344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nterne: tra livelli gerarchici, dirigenti, quadr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Esterne: organizzazioni sindacali, ordini professionali (senso di appartenenz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B Aspetti critici della fase di programmazione e progettazione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042920" y="1125360"/>
            <a:ext cx="7632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it-IT" sz="1700" spc="-1" strike="noStrike">
                <a:solidFill>
                  <a:srgbClr val="003366"/>
                </a:solidFill>
                <a:latin typeface="Arial"/>
              </a:rPr>
              <a:t>Finalità della formazione</a:t>
            </a:r>
            <a:endParaRPr b="0" lang="en-US" sz="1700" spc="-1" strike="noStrike">
              <a:solidFill>
                <a:srgbClr val="ba3e12"/>
              </a:solidFill>
              <a:latin typeface="Arial"/>
            </a:endParaRPr>
          </a:p>
          <a:p>
            <a:pPr lvl="1" marL="705600" indent="-20952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3366"/>
                </a:solidFill>
                <a:latin typeface="Arial"/>
              </a:rPr>
              <a:t>inserimento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0952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3366"/>
                </a:solidFill>
                <a:latin typeface="Arial"/>
              </a:rPr>
              <a:t>aggiornamento e </a:t>
            </a:r>
            <a:r>
              <a:rPr b="0" i="1" sz="1700" spc="-1" strike="noStrike">
                <a:solidFill>
                  <a:srgbClr val="003366"/>
                </a:solidFill>
                <a:latin typeface="Arial"/>
              </a:rPr>
              <a:t>skill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0952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3366"/>
                </a:solidFill>
                <a:latin typeface="Arial"/>
              </a:rPr>
              <a:t>sviluppo professional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0952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3366"/>
                </a:solidFill>
                <a:latin typeface="Arial"/>
              </a:rPr>
              <a:t>sviluppo managerial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3366"/>
                </a:solidFill>
                <a:latin typeface="Arial"/>
              </a:rPr>
              <a:t>Destinatari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0952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3366"/>
                </a:solidFill>
                <a:latin typeface="Arial"/>
              </a:rPr>
              <a:t>dirigenti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0952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3366"/>
                </a:solidFill>
                <a:latin typeface="Arial"/>
              </a:rPr>
              <a:t>funzionari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0952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3366"/>
                </a:solidFill>
                <a:latin typeface="Arial"/>
              </a:rPr>
              <a:t>personale di media qualificazion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it-IT" sz="1700" spc="-1" strike="noStrike">
                <a:solidFill>
                  <a:srgbClr val="003366"/>
                </a:solidFill>
                <a:latin typeface="Arial"/>
              </a:rPr>
              <a:t>... ulteriori possibili distinzioni per famiglia/profilo professionale</a:t>
            </a:r>
            <a:endParaRPr b="0" lang="en-US" sz="1700" spc="-1" strike="noStrike">
              <a:solidFill>
                <a:srgbClr val="ba3e12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it-IT" sz="1700" spc="-1" strike="noStrike">
                <a:solidFill>
                  <a:srgbClr val="003366"/>
                </a:solidFill>
                <a:latin typeface="Arial"/>
              </a:rPr>
              <a:t>Soluzioni gestionali</a:t>
            </a:r>
            <a:endParaRPr b="0" lang="en-US" sz="1700" spc="-1" strike="noStrike">
              <a:solidFill>
                <a:srgbClr val="ba3e12"/>
              </a:solidFill>
              <a:latin typeface="Arial"/>
            </a:endParaRPr>
          </a:p>
          <a:p>
            <a:pPr lvl="1" marL="705600" indent="-20952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3366"/>
                </a:solidFill>
                <a:latin typeface="Arial"/>
              </a:rPr>
              <a:t>formazione gestita “in economia”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0952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3366"/>
                </a:solidFill>
                <a:latin typeface="Arial"/>
              </a:rPr>
              <a:t>formazione affidata all’esterno (a gara – ad affidamento diretto)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0952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3366"/>
                </a:solidFill>
                <a:latin typeface="Arial"/>
              </a:rPr>
              <a:t>formazione acquistata “a catalogo”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3366"/>
                </a:solidFill>
                <a:latin typeface="Arial"/>
              </a:rPr>
              <a:t>Modalità gestionali e metodologie formativ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0952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3366"/>
                </a:solidFill>
                <a:latin typeface="Arial"/>
              </a:rPr>
              <a:t>classificazione 1: aula / Project work / FAD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0952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3366"/>
                </a:solidFill>
                <a:latin typeface="Arial"/>
              </a:rPr>
              <a:t>classificazione 2: interna al settore / tra settori interna all’Ente /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it-IT" sz="1700" spc="-1" strike="noStrike">
                <a:solidFill>
                  <a:srgbClr val="003366"/>
                </a:solidFill>
                <a:latin typeface="Arial"/>
              </a:rPr>
              <a:t>tra Enti diversi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5280" y="260280"/>
            <a:ext cx="8280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C Variabili per la progettazione </a:t>
            </a:r>
            <a:r>
              <a:rPr b="0" sz="2800" spc="-1" strike="noStrike">
                <a:solidFill>
                  <a:srgbClr val="003366"/>
                </a:solidFill>
                <a:latin typeface="Arial"/>
              </a:rPr>
              <a:t>del P.F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1000" fill="hold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1000" fill="hold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1000" fill="hold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3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3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1000" fill="hold"/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3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3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3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3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50920" y="2655720"/>
          <a:ext cx="8713800" cy="3078000"/>
        </p:xfrm>
        <a:graphic>
          <a:graphicData uri="http://schemas.openxmlformats.org/drawingml/2006/table">
            <a:tbl>
              <a:tblPr/>
              <a:tblGrid>
                <a:gridCol w="1368360"/>
                <a:gridCol w="1440000"/>
                <a:gridCol w="1873080"/>
                <a:gridCol w="1584360"/>
                <a:gridCol w="1511280"/>
                <a:gridCol w="9367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inalità della formazio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tinatar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seri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ggiornamento </a:t>
                      </a:r>
                      <a:r>
                        <a:rPr b="0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 </a:t>
                      </a:r>
                      <a:r>
                        <a:rPr b="0" i="1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kill</a:t>
                      </a:r>
                      <a:r>
                        <a:rPr b="0" i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                  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viluppo profession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viluppo manageri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ot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irigenti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unzionar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ltro personale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ot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6613560"/>
            <a:ext cx="1403280" cy="2444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0" y="6206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C Progettazione della formazione</a:t>
            </a:r>
            <a:br>
              <a:rPr sz="2800"/>
            </a:b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emp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71936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a combinazione tra le variabili dovute al piano triennale di formazione alle tipologie professionali e le tipologie formative può essere così esemplificata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00000" y="1652760"/>
            <a:ext cx="784872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Raccordo con il Piano triennale del personale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(P.d.P.)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Variabili del P.d.P.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800" spc="-1" strike="noStrike">
                <a:solidFill>
                  <a:srgbClr val="003366"/>
                </a:solidFill>
                <a:latin typeface="Arial"/>
              </a:rPr>
              <a:t>Turn over</a:t>
            </a:r>
            <a:r>
              <a:rPr b="1" sz="1800" spc="-1" strike="noStrike">
                <a:solidFill>
                  <a:srgbClr val="003366"/>
                </a:solidFill>
                <a:latin typeface="Arial"/>
              </a:rPr>
              <a:t> in uscita e suo reintegro</a:t>
            </a:r>
            <a:r>
              <a:rPr b="0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1800" spc="-1" strike="noStrike">
                <a:solidFill>
                  <a:srgbClr val="003366"/>
                </a:solidFill>
                <a:latin typeface="Arial"/>
              </a:rPr>
              <a:t> n. e figure professionali; l’</a:t>
            </a:r>
            <a:r>
              <a:rPr b="0" i="1" sz="1800" spc="-1" strike="noStrike">
                <a:solidFill>
                  <a:srgbClr val="003366"/>
                </a:solidFill>
                <a:latin typeface="Arial"/>
              </a:rPr>
              <a:t>output </a:t>
            </a:r>
            <a:r>
              <a:rPr b="0" sz="1800" spc="-1" strike="noStrike">
                <a:solidFill>
                  <a:srgbClr val="003366"/>
                </a:solidFill>
                <a:latin typeface="Arial"/>
              </a:rPr>
              <a:t>è </a:t>
            </a:r>
            <a:r>
              <a:rPr b="0" i="1" sz="1800" spc="-1" strike="noStrike">
                <a:solidFill>
                  <a:srgbClr val="003366"/>
                </a:solidFill>
                <a:latin typeface="Arial"/>
              </a:rPr>
              <a:t>input</a:t>
            </a:r>
            <a:r>
              <a:rPr b="0" sz="1800" spc="-1" strike="noStrike">
                <a:solidFill>
                  <a:srgbClr val="003366"/>
                </a:solidFill>
                <a:latin typeface="Arial"/>
              </a:rPr>
              <a:t> del P.F.: formazione di ingresso per tipologia di figura professionale, di base su tecnologie informatiche, su processi trasversali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Progressioni verticali programmate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formazione al ruolo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Mobilità interna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riorganizzazioni o altri eventi, eventuale utilizzo dell’istituto del corso-concorso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511200"/>
            <a:ext cx="9144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D Attuazione </a:t>
            </a:r>
            <a:r>
              <a:rPr b="0" sz="2800" spc="-1" strike="noStrike">
                <a:solidFill>
                  <a:srgbClr val="003366"/>
                </a:solidFill>
                <a:latin typeface="Arial"/>
              </a:rPr>
              <a:t>del P.F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.: dimensionamento quantit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10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10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971280" y="1868400"/>
            <a:ext cx="784836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La tipologia professionale: variabile chiave del </a:t>
            </a:r>
            <a:r>
              <a:rPr b="1" sz="2000" spc="-1" strike="noStrike">
                <a:solidFill>
                  <a:srgbClr val="003366"/>
                </a:solidFill>
                <a:latin typeface="Arial"/>
              </a:rPr>
              <a:t>P.F.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E’ risultato della combinazione tra: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efinizione delle figure professionali (da contratto di lavoro)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oro traduzione in specifiche aggregazioni di ruoli propri  dell’organizzazione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efinizione dei percorsi formativi ed </a:t>
            </a:r>
            <a:r>
              <a:rPr b="0" sz="2000" spc="-1" strike="noStrike">
                <a:solidFill>
                  <a:srgbClr val="003366"/>
                </a:solidFill>
                <a:latin typeface="Arial"/>
              </a:rPr>
              <a:t>esperenziali per ricocoprirle 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e tipologie indicate di seguito hanno come riferimento i processi formativi e possono essere definite a “maglia larga” o “maglia stretta” in funzione dei processi di lavoro dell’organizzazione vigente, delle contingenze determinate dalla composizione della forza lavoro (età, titoli, esperienza lavorativa, </a:t>
            </a:r>
            <a:r>
              <a:rPr b="0" sz="2000" spc="-1" strike="noStrike">
                <a:solidFill>
                  <a:srgbClr val="003366"/>
                </a:solidFill>
                <a:latin typeface="Arial"/>
              </a:rPr>
              <a:t>etc.),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di innovazioni tecnologiche, normative e contrattuali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655560"/>
            <a:ext cx="9144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D Attuazione </a:t>
            </a:r>
            <a:r>
              <a:rPr b="0" sz="2800" spc="-1" strike="noStrike">
                <a:solidFill>
                  <a:srgbClr val="003366"/>
                </a:solidFill>
                <a:latin typeface="Arial"/>
              </a:rPr>
              <a:t>del P.F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.: tipologie professional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900000" y="3284640"/>
            <a:ext cx="78487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Distinzione articolata: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 marL="716040" indent="-536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irigenti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 marL="716040" indent="-536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quadri gestionali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 marL="716040" indent="-536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gettisti di prodotto / servizio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 marL="716040" indent="-536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gettisti di sistema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 marL="716040" indent="-536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pecialisti: area tecnica, amministrativa, programmazione e controllo, qualità, marketing, altre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 marL="716040" indent="-536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tecnici di “routine”: gestori di procedure o processi semplici e </a:t>
            </a:r>
            <a:r>
              <a:rPr b="0" sz="2000" spc="-1" strike="noStrike">
                <a:solidFill>
                  <a:srgbClr val="003366"/>
                </a:solidFill>
                <a:latin typeface="Arial"/>
              </a:rPr>
              <a:t>routinari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404640"/>
            <a:ext cx="91440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D Attuazione </a:t>
            </a:r>
            <a:r>
              <a:rPr b="0" sz="2800" spc="-1" strike="noStrike">
                <a:solidFill>
                  <a:srgbClr val="003366"/>
                </a:solidFill>
                <a:latin typeface="Arial"/>
              </a:rPr>
              <a:t>del P.F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.: tipologie professionali</a:t>
            </a:r>
            <a:br>
              <a:rPr sz="2800"/>
            </a:b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emp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30240" y="1701720"/>
            <a:ext cx="7848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53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Distinzione minima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716040" indent="-536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irige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716040" indent="-536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funziona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716040" indent="-536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ltro person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4000" y="1989000"/>
            <a:ext cx="784836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2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66"/>
                </a:solidFill>
                <a:latin typeface="Arial"/>
              </a:rPr>
              <a:t>Naturalmente ogni corso avrà una sua specificità, ma esso va ricondotto a specifiche finalità da ricondurre, a loro volta, ai bisogni formativi definiti contingentemente in un mix che tenga conto sia delle necessità di mantenimento che di innovazione di ciascuna organizzazione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D Attuazione </a:t>
            </a:r>
            <a:r>
              <a:rPr b="0" sz="2800" spc="-1" strike="noStrike">
                <a:solidFill>
                  <a:srgbClr val="003366"/>
                </a:solidFill>
                <a:latin typeface="Arial"/>
              </a:rPr>
              <a:t>del P.F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.: tipologie form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3741840"/>
            <a:ext cx="78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nche in questo caso tali finalità possono essere rappresentate in maniera più articolata o più sintetica, in coerenza con la strategia, la struttura e i processi lavorativi dell’organizzazione di riferi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85800" y="1720440"/>
            <a:ext cx="784872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Giovedì 17 giugno 2004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 marL="7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Valutazione di gradimento, apprendimento, applicazione al lavoro, impatto sull’organizzazione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(1° parte):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finalità, caratteristiche, metodi e opportunità di applicazione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 marL="7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 marL="7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685440" y="582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ssimi appuntamenti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3645000"/>
            <a:ext cx="7920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Giovedì 24 giugno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Valutazione di gradimento, apprendimento, applicazione al lavoro, impatto sull’organizzazione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(2° parte):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finalità, caratteristiche, metodi e opportunità di applic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istemi informativi a supporto della </a:t>
            </a:r>
            <a:r>
              <a:rPr b="0" i="1" sz="2000" spc="-1" strike="noStrike">
                <a:solidFill>
                  <a:srgbClr val="003366"/>
                </a:solidFill>
                <a:latin typeface="Arial"/>
              </a:rPr>
              <a:t>governance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ella formazione e della GRU: ciclo formativo e implemen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iano di sperimentazione in quattro P.A. partecipa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692280"/>
            <a:ext cx="31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ram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0360" y="2637000"/>
            <a:ext cx="860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1 principali esigenze e aspetti problemati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74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2 variabili di riferiment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74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3 sintesi per problematiche, ambiti e variabili di riferi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1280" y="148392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Ministero per i Beni e le attività culturali</a:t>
            </a: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Mauro Cotone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 - Dirigente Ufficio status e formazione del personale, tel. 06-67232466, e-mail: scotone@beniculturali.it</a:t>
            </a: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Ministero per le Attività produttive</a:t>
            </a: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Mirella Ferlazzo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- Dirigente per i Servizi interni, tel. 06-47052770, e-mail: mirella.ferlazzo@minindustria.it</a:t>
            </a: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Ministero dell’Istruzione, dell’università e della ricerca</a:t>
            </a: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Bruno Pagnani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 - Direttore delle Risorse umane, tel. 06-58492732, e-mail </a:t>
            </a: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bpagnani@istruzione.it</a:t>
            </a: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Ministero del Lavoro e delle politiche sociali</a:t>
            </a: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Mario Notaro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- Direttore AA.GG. Risorse umane e attività ispettive, tel. 06-47887194, e-mail: segreteriadgpersonale@welfare.gov.it</a:t>
            </a: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Agenzia del Territorio</a:t>
            </a: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Salvatore Lazzara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- Responsabile per la formazione del personale, tel. 06-47775511, e-mail: salvatore.lazzara@agenziaterritorio.it</a:t>
            </a: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Istat</a:t>
            </a: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Silvio Stoppoloni - Dirigente Servizio sviluppo risorse umane, tel.  06-46732565, e-mail: stoppolo@istat.it</a:t>
            </a: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Coordinatore: Luciano Rouvery, Consorzio Mipa, Tel. 06-68301504, e-mail: mipa@consorziomipa.it</a:t>
            </a: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  <a:p>
            <a:pPr marL="7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08000" y="58212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Riunione Direttori del personale e loro delegati </a:t>
            </a:r>
            <a:br>
              <a:rPr sz="2000"/>
            </a:b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sz="2000" spc="-1" strike="noStrike">
                <a:solidFill>
                  <a:srgbClr val="003366"/>
                </a:solidFill>
                <a:latin typeface="Arial"/>
              </a:rPr>
              <a:t>Adioconferenza del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28.05.04)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- Agenda dei contatt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c21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692280"/>
            <a:ext cx="31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ram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2222640"/>
            <a:ext cx="8280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2.1 problemi e obietti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74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2.2 analisi dei fabbisogni formati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2.3 progettazione della proposta di Pia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74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2.4 attuazione del Piano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620640"/>
            <a:ext cx="31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ram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122560"/>
            <a:ext cx="8096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3.1 tipologie di valutazione, finalità, caratteristiche, metodi e opportunità di applicazion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74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3.2 sistemi informativi a supporto della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governance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della formazione e della direzione del person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74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3.3 piano della sperimentazione in quattro amministrazioni partecipa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1341360"/>
            <a:ext cx="784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Riassu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ncontro dei Direttori del personale e della funzione formazione (</a:t>
            </a:r>
            <a:r>
              <a:rPr b="0" sz="2000" spc="-1" strike="noStrike">
                <a:solidFill>
                  <a:srgbClr val="003366"/>
                </a:solidFill>
                <a:latin typeface="Arial"/>
              </a:rPr>
              <a:t>Audioconferenza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el 28 maggio 200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ercorso di lavoro, gennaio </a:t>
            </a:r>
            <a:r>
              <a:rPr b="0" lang="it-IT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dicembre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pprofondi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Modello di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overnanc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della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gettazione delle metodologie di programmazione e valutazione: Piano della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ssimi incontri di Laboratorio: 17 e 24 giugno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54936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emi di ogg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9079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. Incontro dei direttori del personale e loro deleg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3366"/>
                </a:solidFill>
                <a:latin typeface="Arial"/>
              </a:rPr>
              <a:t>(Audioconferenza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del 28 maggio 200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2205000"/>
            <a:ext cx="705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57120" indent="-177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ondivision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degli orientamenti e dei principi di governo della formazione del lavoro pubbl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7120" indent="-177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7120" indent="-177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sigenze,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ree di attenzion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e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ariabili rilevanti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per il governo del processo: programmazione, monitoraggio e valu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7120" indent="-177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7120" indent="-177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stituzione dei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gruppi di II° livello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: dirigenti di funzione e loro delega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21920" y="-100440"/>
            <a:ext cx="6202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ffffff"/>
                </a:solidFill>
                <a:latin typeface="Arial"/>
              </a:rPr>
              <a:t>Principali esigenze e aree di attenzione</a:t>
            </a:r>
            <a:endParaRPr b="1" lang="en-US" sz="13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6028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igenze e aree di attenzione: program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52240" y="1279440"/>
            <a:ext cx="2285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Principali</a:t>
            </a: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esigenz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62360" y="1268280"/>
            <a:ext cx="2681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Aspetti problemati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1773360"/>
            <a:ext cx="28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Integrare la programmazione formativa con le strategie dell’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70360" y="1916280"/>
            <a:ext cx="38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Effettivo coinvolgimento del vertice nelle scelte del Piano di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29638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Integrare la programmazione formativa con le politiche di GR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91080" y="2925720"/>
            <a:ext cx="51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elazione tra formazione e carrie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elazione tra valutazione e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397188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rogrammare la formazione in coerenza con i cambiamenti in at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3935520"/>
            <a:ext cx="397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Definire nuove modalità </a:t>
            </a:r>
            <a:r>
              <a:rPr b="0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ealizzativ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, più complesse ma più effica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086440"/>
            <a:ext cx="287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isione organica delle risorse / attività di formazione di 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508644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ortare a sistema dentro l’Ente le diverse opportunità di finanziamento / realizzazione di attività forma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igenze e aree di attenzione: monitoraggio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52240" y="1136520"/>
            <a:ext cx="2285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Principali</a:t>
            </a: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esigenz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62360" y="1125360"/>
            <a:ext cx="2681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Aspetti problemati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78452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Garantire la coerenza con quanto programmato, governando le “spinte” dei diversi sogget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70360" y="1758960"/>
            <a:ext cx="437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trumenti di verifica e intervento da parte del vertice / del responsabile dell’attuazione del Pia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Gestione delle relazioni sindacali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25296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Orientare gli acquisti di formazione alle effettive necessit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08360" y="3214800"/>
            <a:ext cx="46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esenza di eventuali vincoli o inerzie nell’acquisi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433224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orretta selezione dei  partecipanti alle azioni forma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03840" y="4295880"/>
            <a:ext cx="39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Definire nuove modalità </a:t>
            </a:r>
            <a:r>
              <a:rPr b="0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ealizzativ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, più complesse ma più effica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530208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urare l’efficienz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gestion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532116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ntrollo del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budget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e delle risorse impiegate, rispetto dei temp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09:46:00Z</dcterms:created>
  <dc:creator>torda</dc:creator>
  <dc:description/>
  <dc:language>en-US</dc:language>
  <cp:lastModifiedBy>APOLIDE</cp:lastModifiedBy>
  <dcterms:modified xsi:type="dcterms:W3CDTF">2004-07-05T09:21:30Z</dcterms:modified>
  <cp:revision>452</cp:revision>
  <dc:subject/>
  <dc:title> Una opportunità per vivere la sfida dell’innovazione nella P.A.</dc:title>
</cp:coreProperties>
</file>