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6"/>
          </p:nvPr>
        </p:nvSpPr>
        <p:spPr>
          <a:xfrm>
            <a:off x="385128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c2100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8"/>
          </p:nvPr>
        </p:nvSpPr>
        <p:spPr>
          <a:xfrm>
            <a:off x="385128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D32440-17C9-4029-B152-5703B4454BF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b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541DD-5AFC-41A4-96AB-01B96F22B3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A0916-48FC-4568-9E12-7CCD86D4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772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17292-AF3C-446C-8C82-434EE194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9720" y="12193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3640" y="12193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9720" y="37666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3640" y="37666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54E1A-3F6C-448A-A5B9-E82B706944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FDC34-D297-467C-BDA3-887D7DB35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67439-8BBF-4BC7-8D66-2FF25513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25D5C-F645-4B65-945B-929B3FC3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7CD2F-C112-4A4B-97D3-445C10E2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DBEF1-7859-48DD-98C6-409041D9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543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9AD45-F4B4-449B-901A-71B8E2D6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F9062-84DF-4AB0-9CCD-46D6E25F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F7F79-181F-4958-B428-6D151DCA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0772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62F79-468D-4907-B0AC-F6664DC2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31A02-F70F-4ADF-9E86-26CB1776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1074F-DF6F-405A-B350-3DE7B963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0772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32530-C5A4-4BA5-82A6-67E6265B6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39720" y="12193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93640" y="12193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39720" y="37666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93640" y="37666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8CA5B-097C-4488-BB40-DD83A6F02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75FD4-91A8-4A17-8265-80C9BF34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A9CAA-2A39-4524-9291-BF117253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00FF3-8EEE-49E5-A47D-E296D6B5E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543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6C998-1953-4015-BBC5-5CA2158FE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F20B9-06A7-45D1-A365-7DB26B71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772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80BC2-794C-4CB8-A928-4CADF075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5849C-4D01-4993-8BAA-7CB80EBA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c21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51468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94313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3e12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  <a:p>
            <a:pPr lvl="1" marL="536400" indent="-28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3e12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  <a:p>
            <a:pPr lvl="2" marL="955800" indent="-228600">
              <a:spcBef>
                <a:spcPts val="601"/>
              </a:spcBef>
              <a:buClr>
                <a:srgbClr val="c94313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3e12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  <a:p>
            <a:pPr lvl="3" marL="1374840" indent="-228600">
              <a:spcBef>
                <a:spcPts val="601"/>
              </a:spcBef>
              <a:buClr>
                <a:srgbClr val="c94313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3e12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  <a:p>
            <a:pPr lvl="4" marL="1771560" indent="-206280">
              <a:spcBef>
                <a:spcPts val="601"/>
              </a:spcBef>
              <a:buClr>
                <a:srgbClr val="c94313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3e12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  <a:p>
            <a:pPr lvl="5" marL="1771560" indent="-206280">
              <a:spcBef>
                <a:spcPts val="601"/>
              </a:spcBef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3e12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  <a:p>
            <a:pPr lvl="6" marL="1771560" indent="-206280">
              <a:spcBef>
                <a:spcPts val="601"/>
              </a:spcBef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3e12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51452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610480" y="6439320"/>
            <a:ext cx="53352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600" spc="-1" strike="noStrike">
                <a:solidFill>
                  <a:srgbClr val="ba3e1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F4AA-B468-49DE-8DA0-F1FAAC54A972}" type="slidenum">
              <a:rPr b="1" lang="it-IT" sz="1600" spc="-1" strike="noStrike">
                <a:solidFill>
                  <a:srgbClr val="ba3e12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6545160"/>
            <a:ext cx="7619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533160" y="6476760"/>
            <a:ext cx="838188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ba3e12"/>
                </a:solidFill>
                <a:latin typeface="Arial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ba3e12"/>
                </a:solidFill>
                <a:latin typeface="Arial"/>
              </a:rPr>
              <a:t>&lt;date/time&gt;</a:t>
            </a:r>
            <a:r>
              <a:rPr b="1" lang="it-IT" sz="1200" spc="-1" strike="noStrike">
                <a:solidFill>
                  <a:srgbClr val="ba3e12"/>
                </a:solidFill>
                <a:latin typeface="Arial"/>
              </a:rPr>
              <a:t>Monitoraggio e valutazione della formazione. Il Laboratorio del Dipartimento della Funzione Pubbl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3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4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5"/>
          </p:nvPr>
        </p:nvSpPr>
        <p:spPr>
          <a:xfrm>
            <a:off x="456840" y="6368040"/>
            <a:ext cx="67644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011C-4D11-44ED-AB6F-FB37149A3B32}" type="slidenum">
              <a:rPr b="1" lang="it-IT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936720" y="2111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c21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0052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9144000" cy="495288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7391520" y="304920"/>
            <a:ext cx="1447560" cy="1218600"/>
            <a:chOff x="7391520" y="304920"/>
            <a:chExt cx="1447560" cy="121860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7723440" y="304920"/>
              <a:ext cx="770760" cy="90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4"/>
            <a:stretch/>
          </p:blipFill>
          <p:spPr>
            <a:xfrm>
              <a:off x="7391520" y="1227960"/>
              <a:ext cx="1447560" cy="29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"/>
          <p:cNvSpPr/>
          <p:nvPr/>
        </p:nvSpPr>
        <p:spPr>
          <a:xfrm>
            <a:off x="388152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432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4" name="logo LeA e pay off1" descr=""/>
          <p:cNvPicPr/>
          <p:nvPr/>
        </p:nvPicPr>
        <p:blipFill>
          <a:blip r:embed="rId5"/>
          <a:stretch/>
        </p:blipFill>
        <p:spPr>
          <a:xfrm>
            <a:off x="228600" y="519120"/>
            <a:ext cx="3429000" cy="66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1700280"/>
            <a:ext cx="764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rial"/>
              </a:rPr>
              <a:t>Monitoraggio e valutazione </a:t>
            </a:r>
            <a:br>
              <a:rPr sz="2800"/>
            </a:br>
            <a:r>
              <a:rPr b="1" lang="it-IT" sz="2800" spc="-1" strike="noStrike">
                <a:solidFill>
                  <a:srgbClr val="003366"/>
                </a:solidFill>
                <a:latin typeface="Arial"/>
              </a:rPr>
              <a:t>della formazione </a:t>
            </a:r>
            <a:br>
              <a:rPr sz="2800"/>
            </a:br>
            <a:r>
              <a:rPr b="0" lang="it-IT" sz="2600" spc="-1" strike="noStrike">
                <a:solidFill>
                  <a:srgbClr val="003366"/>
                </a:solidFill>
                <a:latin typeface="Arial"/>
              </a:rPr>
              <a:t>Il Laboratorio del Dipartimento della </a:t>
            </a:r>
            <a:br>
              <a:rPr sz="2600"/>
            </a:br>
            <a:r>
              <a:rPr b="0" lang="it-IT" sz="2600" spc="-1" strike="noStrike">
                <a:solidFill>
                  <a:srgbClr val="003366"/>
                </a:solidFill>
                <a:latin typeface="Arial"/>
              </a:rPr>
              <a:t>Funzione Pubblica</a:t>
            </a:r>
            <a:br>
              <a:rPr sz="2600"/>
            </a:b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76400" y="5300640"/>
            <a:ext cx="59436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Roma, giovedì 17 giugno 200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Via Cavour 50/a, sala Aventino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000" cy="54288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8172360" y="0"/>
            <a:ext cx="971640" cy="764640"/>
            <a:chOff x="8172360" y="0"/>
            <a:chExt cx="971640" cy="76464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8395200" y="0"/>
              <a:ext cx="517320" cy="5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8172360" y="579240"/>
              <a:ext cx="971640" cy="18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7524720" y="6529320"/>
            <a:ext cx="161928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33520" y="83808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640080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8487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848720" y="3503520"/>
            <a:ext cx="0" cy="289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16360" y="1125360"/>
            <a:ext cx="316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1.b Destinatari della form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2109960"/>
            <a:ext cx="4267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11280" y="2730600"/>
            <a:ext cx="42674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Dirigent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Funzionari (categoria C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Altro personale (categorie A e B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33520" y="640080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487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848720" y="3503520"/>
            <a:ext cx="0" cy="289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476280"/>
            <a:ext cx="8153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1. Finalità formative per destinatari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574344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La matrice indica la rilevanza di ciascuna finalità formativa per tipologia di destinatari dell’intervento formativ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04920" y="981000"/>
          <a:ext cx="8076960" cy="39117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  <a:gridCol w="2019240"/>
                <a:gridCol w="2019240"/>
              </a:tblGrid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Dirigent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Funzionar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Altro personal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Inseriment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4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*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4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**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4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**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Aggiornamento e </a:t>
                      </a:r>
                      <a:r>
                        <a:rPr b="0" i="1" lang="it-IT" sz="2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skill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4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*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4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**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4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**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Sviluppo professional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4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*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4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**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4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*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Sviluppo managerial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4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**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4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*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33520" y="83808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640080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8487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848720" y="3503520"/>
            <a:ext cx="0" cy="289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620640"/>
            <a:ext cx="64008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1.c Momenti della valut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5960" y="15238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7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La valutazione incrocia le diverse fasi del processo formativ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262908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Fasi del processo formativ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05520" y="265104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Momenti della valut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3276720"/>
            <a:ext cx="38098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Pianificazione/progett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05520" y="3251160"/>
            <a:ext cx="36576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x an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05520" y="421812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in itine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05520" y="5140440"/>
            <a:ext cx="365760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x pos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4184640"/>
            <a:ext cx="3810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rog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5099040"/>
            <a:ext cx="381024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Verif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343400" y="3681360"/>
            <a:ext cx="609480" cy="122400"/>
          </a:xfrm>
          <a:prstGeom prst="leftRightArrow">
            <a:avLst>
              <a:gd name="adj1" fmla="val 39167"/>
              <a:gd name="adj2" fmla="val 101156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343400" y="4595760"/>
            <a:ext cx="609480" cy="122400"/>
          </a:xfrm>
          <a:prstGeom prst="leftRightArrow">
            <a:avLst>
              <a:gd name="adj1" fmla="val 39167"/>
              <a:gd name="adj2" fmla="val 101156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5510160"/>
            <a:ext cx="609480" cy="122400"/>
          </a:xfrm>
          <a:prstGeom prst="leftRightArrow">
            <a:avLst>
              <a:gd name="adj1" fmla="val 39167"/>
              <a:gd name="adj2" fmla="val 101156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900000" y="335772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verificare la corrispondenza delle specifiche formative enunciate dalle ipotesi di piano con le esigenze connesse ai piani strategici dell’amministrazione e ai processi di cambiamento in att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33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ritarare le specifiche degli dell’interventi formativ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447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Interviene nella fase di pianificazione e progettazione dell’ intervento formativ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62240" y="2492280"/>
            <a:ext cx="20574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Obiettiv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11200" y="692280"/>
            <a:ext cx="64008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1.c Momenti della valutazione: ex a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00000" y="3352680"/>
            <a:ext cx="7848720" cy="25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rilevare eventuali criticità percepite dai docenti e dai partecipanti nel corso dell’erogazione della form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" action="ppaction://hlinksldjump"/>
              </a:rPr>
              <a:t>monitorare l’efficienza </a:t>
            </a:r>
            <a:r>
              <a:rPr b="0" lang="it-IT" sz="20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" action="ppaction://hlinksldjump"/>
              </a:rPr>
              <a:t>realizzativ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migliorare le condizioni di erogazione dell’intervento formativ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integrare l’azione formativa: ampliamento e approfondiment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523880"/>
            <a:ext cx="73915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Interviene nella fase di erogazione dell’intervento formativ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32000" y="2565360"/>
            <a:ext cx="20574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Obiettiv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11200" y="739800"/>
            <a:ext cx="64008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1.c Momenti della valutazione: in itine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533520" y="83808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640080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8487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848720" y="3503520"/>
            <a:ext cx="0" cy="289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>
            <a:hlinkClick r:id="rId1" action="ppaction://hlinksldjump"/>
          </p:cNvPr>
          <p:cNvSpPr/>
          <p:nvPr/>
        </p:nvSpPr>
        <p:spPr>
          <a:xfrm>
            <a:off x="2916360" y="404640"/>
            <a:ext cx="316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Esempio: monitoraggio dell’efficienza realizzati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4000" y="1125360"/>
            <a:ext cx="8496000" cy="12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L’efficienza realizzativa del percorso formativo si valuta a ridosso degli interventi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ssa rileva lo scostamento dalle previsioni o dalla situazione registrata in fase di avvi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95280" y="2492280"/>
          <a:ext cx="8424720" cy="4172040"/>
        </p:xfrm>
        <a:graphic>
          <a:graphicData uri="http://schemas.openxmlformats.org/drawingml/2006/table">
            <a:tbl>
              <a:tblPr/>
              <a:tblGrid>
                <a:gridCol w="1963800"/>
                <a:gridCol w="3652920"/>
                <a:gridCol w="2808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Variabi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Indicator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Declinazione operativ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Destinatar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Indicatore di riuscita attuativa (o efficienza formativa) riferito ai destinatar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% di destinatari formati sul totale dei destinatari iscritt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% di destinatari formati sul totale dei destinatari potenzial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Durat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Indicatore di riuscita attuativa riferito alla durat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Numero di ore di formazione erogate sul numero delle ore previst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Cost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Indicatore di capacità d’impegn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Budget/impegnato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Indicatore di efficienza realizzativ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peso/impegnat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533520" y="83808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640080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8487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848720" y="3503520"/>
            <a:ext cx="0" cy="289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4360" y="1484280"/>
            <a:ext cx="763272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1523880"/>
            <a:ext cx="73915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Interviene nella fase di verifica dell’intervento formativ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74840" y="2209680"/>
            <a:ext cx="12952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Obiettiv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424160" y="3645000"/>
          <a:ext cx="6172200" cy="1993680"/>
        </p:xfrm>
        <a:graphic>
          <a:graphicData uri="http://schemas.openxmlformats.org/drawingml/2006/table">
            <a:tbl>
              <a:tblPr/>
              <a:tblGrid>
                <a:gridCol w="2361960"/>
                <a:gridCol w="3810240"/>
              </a:tblGrid>
              <a:tr h="477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66699"/>
                          </a:solidFill>
                          <a:latin typeface="Arial"/>
                          <a:ea typeface="Times New Roman"/>
                        </a:rPr>
                        <a:t>Individu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oddisfazione/aspettative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0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conoscenz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06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Organizzazion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ervizio/prodott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0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clima/stile organizzativ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>
            <a:off x="1368720" y="2637000"/>
            <a:ext cx="54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Verificare l’impatto dell’intervento formativo su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403280" y="836640"/>
            <a:ext cx="64008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1.c Momenti della valutazione: ex po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914400" y="1676520"/>
            <a:ext cx="76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La valutazione dei processo formativo si caratterizza per la sua circolarità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762120"/>
            <a:ext cx="828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1. Circolarità del processo di valut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54864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La verifica dell’efficienza ralizzativa (valutazione in itinere) e degli esiti delle attività formative (valutazione ex post) forniscono degli </a:t>
            </a:r>
            <a:r>
              <a:rPr b="0" i="1" lang="it-IT" sz="2000" spc="-1" strike="noStrike">
                <a:solidFill>
                  <a:srgbClr val="003366"/>
                </a:solidFill>
                <a:latin typeface="Arial"/>
              </a:rPr>
              <a:t>input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alla programmazione delle successive attività formative (valutazione ex ant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2682720"/>
            <a:ext cx="3429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pianificazione/progett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05520" y="2666880"/>
            <a:ext cx="2590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x an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05520" y="3543480"/>
            <a:ext cx="25905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in itine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05520" y="4267080"/>
            <a:ext cx="2590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x pos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3543480"/>
            <a:ext cx="3429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rog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4267080"/>
            <a:ext cx="3429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verif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37" name=""/>
          <p:cNvCxnSpPr>
            <a:stCxn id="234" idx="2"/>
            <a:endCxn id="232" idx="0"/>
          </p:cNvCxnSpPr>
          <p:nvPr/>
        </p:nvCxnSpPr>
        <p:spPr>
          <a:xfrm flipH="1" flipV="1" rot="5400000">
            <a:off x="5258160" y="3808800"/>
            <a:ext cx="2286720" cy="2160"/>
          </a:xfrm>
          <a:prstGeom prst="bentConnector5">
            <a:avLst>
              <a:gd name="adj1" fmla="val -9998"/>
              <a:gd name="adj2" fmla="val 96000000"/>
              <a:gd name="adj3" fmla="val 109998"/>
            </a:avLst>
          </a:prstGeom>
          <a:ln w="9360">
            <a:solidFill>
              <a:srgbClr val="003366"/>
            </a:solidFill>
            <a:miter/>
            <a:tailEnd len="lg" type="triangle" w="lg"/>
          </a:ln>
        </p:spPr>
      </p:cxnSp>
      <p:sp>
        <p:nvSpPr>
          <p:cNvPr id="238" name=""/>
          <p:cNvSpPr/>
          <p:nvPr/>
        </p:nvSpPr>
        <p:spPr>
          <a:xfrm>
            <a:off x="4343400" y="3057480"/>
            <a:ext cx="609480" cy="142920"/>
          </a:xfrm>
          <a:prstGeom prst="leftRightArrow">
            <a:avLst>
              <a:gd name="adj1" fmla="val 39167"/>
              <a:gd name="adj2" fmla="val 8663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343400" y="3819600"/>
            <a:ext cx="609480" cy="142920"/>
          </a:xfrm>
          <a:prstGeom prst="leftRightArrow">
            <a:avLst>
              <a:gd name="adj1" fmla="val 39167"/>
              <a:gd name="adj2" fmla="val 8663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343400" y="4581360"/>
            <a:ext cx="609480" cy="142920"/>
          </a:xfrm>
          <a:prstGeom prst="leftRightArrow">
            <a:avLst>
              <a:gd name="adj1" fmla="val 39167"/>
              <a:gd name="adj2" fmla="val 8663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972480" y="3753000"/>
            <a:ext cx="8380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24000" y="974880"/>
            <a:ext cx="828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1. d  Tipologie di valut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05520" y="4419720"/>
            <a:ext cx="19047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105520" y="647712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238880" y="4419720"/>
            <a:ext cx="6324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162920" y="6477120"/>
            <a:ext cx="6400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533520" y="2241720"/>
          <a:ext cx="8076960" cy="3274920"/>
        </p:xfrm>
        <a:graphic>
          <a:graphicData uri="http://schemas.openxmlformats.org/drawingml/2006/table">
            <a:tbl>
              <a:tblPr/>
              <a:tblGrid>
                <a:gridCol w="2093760"/>
                <a:gridCol w="5983200"/>
              </a:tblGrid>
              <a:tr h="1560240"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adiment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R="11448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114480" rIns="0" tIns="0" bIns="1144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dividuazione degli aspetti qualitativi rilevanti della formazione e dei singoli fattori di qualità della formazione; si rileva il giudizio di gradimento dei partecipanti. Un’ulteriore valutazione interessa altri soggetti: tutor, </a:t>
                      </a:r>
                      <a:r>
                        <a:rPr b="0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ach</a:t>
                      </a: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 assistenti didattici 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1448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prendiment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R="11448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4480" rIns="0" tIns="11448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alutazione dei risultati dell’intervento formativo in termini di apprendimento individuale, secondo due delle tre classiche aree di saperi: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3366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apere (conoscenze teoriche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003366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aper essere (comportamenti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1448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533520" y="762120"/>
            <a:ext cx="828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1.d  Tipologie di valutazion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4673520"/>
            <a:ext cx="2857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6610320"/>
            <a:ext cx="2666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67080" y="4641840"/>
            <a:ext cx="4876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67080" y="6610320"/>
            <a:ext cx="4724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611280" y="2384280"/>
          <a:ext cx="8076960" cy="2311560"/>
        </p:xfrm>
        <a:graphic>
          <a:graphicData uri="http://schemas.openxmlformats.org/drawingml/2006/table">
            <a:tbl>
              <a:tblPr/>
              <a:tblGrid>
                <a:gridCol w="2743200"/>
                <a:gridCol w="5333760"/>
              </a:tblGrid>
              <a:tr h="1099800"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mpatto: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plicazione al lavor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R="11448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114480" rIns="0" tIns="0" bIns="1144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alutazione delle capacità di impiego effettivo dei saperi nelle attività svolte: saper fare (capacità applicativa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1448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12120"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mpatto:  sull’organizzazion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R="11448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4480" rIns="0" tIns="11448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icadute di medio - lungo termine della formazione rispetto gli </a:t>
                      </a:r>
                      <a:r>
                        <a:rPr b="0" i="1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utput</a:t>
                      </a: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e agli </a:t>
                      </a:r>
                      <a:r>
                        <a:rPr b="0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utcome </a:t>
                      </a: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elle strutture (unità organizzative - ente) di appartenenza dei partecipant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1448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"/>
          <p:cNvSpPr/>
          <p:nvPr/>
        </p:nvSpPr>
        <p:spPr>
          <a:xfrm>
            <a:off x="755640" y="522432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La valutazione di impatto richiede l’individuazione dell’oggetto da sottoporre a valut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83808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40080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487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848720" y="3503520"/>
            <a:ext cx="0" cy="289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16360" y="765000"/>
            <a:ext cx="316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Program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1484280"/>
            <a:ext cx="763272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1917720"/>
            <a:ext cx="81374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Progettazione delle metodologie di valutazione della formazione: </a:t>
            </a:r>
            <a:r>
              <a:rPr b="1" i="1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1°par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71640" y="3083040"/>
            <a:ext cx="8064360" cy="11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0033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  <a:ea typeface="Arial"/>
              </a:rPr>
              <a:t>Sperimentazione presso quattro P.A. partecipanti al Laboratori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465300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003366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  <a:ea typeface="Arial"/>
              </a:rPr>
              <a:t>Incontro di Laboratorio di giovedì 24 giugno 200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533520" y="83808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33520" y="640080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35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8487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848720" y="3503520"/>
            <a:ext cx="0" cy="289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916360" y="1052640"/>
            <a:ext cx="316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1.d  Oggetto della valutazione di impat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332000" y="23749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Gli strumenti di valutazione di impatto si utilizzano in funzione dell’oggetto di osservazione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78000" y="3378240"/>
            <a:ext cx="399420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comportamento lavorativ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videnza delle performan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209680" y="4495680"/>
            <a:ext cx="441972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1bis. esperienza formativa individua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2bis. esperienza formativa collettiv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5562720"/>
            <a:ext cx="7315200" cy="1068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Nota:  nel seguito della presentazione si prendono in considerazione solo i primi due oggetti, sui punti 1bis e 2bis va speso un altro momento di riflessione/condivisione sull’opportunità di una loro integrazione nel modello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78487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848720" y="3503520"/>
            <a:ext cx="0" cy="289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447920" y="533520"/>
            <a:ext cx="56386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1.  Strumenti della valut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181480" y="5867280"/>
            <a:ext cx="426744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533520" y="1447920"/>
          <a:ext cx="8305560" cy="4662360"/>
        </p:xfrm>
        <a:graphic>
          <a:graphicData uri="http://schemas.openxmlformats.org/drawingml/2006/table">
            <a:tbl>
              <a:tblPr/>
              <a:tblGrid>
                <a:gridCol w="1981080"/>
                <a:gridCol w="632448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Strumenti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Ambito di applicazion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nalisi documental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Pre-condizione dell’intero processo formativo; è uno strumento di valutazione delle condizioni di partenza e le prospettive di arrivo della formazione. La qualità del suo </a:t>
                      </a:r>
                      <a:r>
                        <a:rPr b="0" i="1" lang="it-IT" sz="2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output</a:t>
                      </a:r>
                      <a:r>
                        <a:rPr b="0" lang="it-IT" sz="2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 aumenta i relazione alla disponibilità di un’efficace sistema informativo su formazione e personal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9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 u="sng">
                          <a:solidFill>
                            <a:srgbClr val="666699"/>
                          </a:solidFill>
                          <a:uFillTx/>
                          <a:latin typeface="Arial"/>
                          <a:ea typeface="Times New Roman"/>
                          <a:hlinkClick r:id="rId1" action="ppaction://hlinksldjump"/>
                        </a:rPr>
                        <a:t>Interviste dirett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Intervengono con finalità specifiche nella valutazione delle diverse fasi del processo formativo. Possono contribuire alla raccolta e razionalizzazione di informazioni necessarie ad alimentare il sistema informativo eventualmente attiv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666699"/>
                          </a:solidFill>
                          <a:uFillTx/>
                          <a:latin typeface="Arial"/>
                          <a:ea typeface="Times New Roman"/>
                          <a:hlinkClick r:id="rId2" action="ppaction://hlinksldjump"/>
                        </a:rPr>
                        <a:t>Focus group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nalisi dat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Questionar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533520" y="83808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3520" y="640080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335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8487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848720" y="3503520"/>
            <a:ext cx="0" cy="289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2916360" y="260280"/>
            <a:ext cx="316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Esempio: intervis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4000" y="874800"/>
            <a:ext cx="84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Le interviste sono finalizzate, generalmente, a ricostruire la mappa degli effetti e degli impatti degli interventi formativi ed è lo strumento valutativo principale dell’analisi di caso (valutazione qualitativa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250920" y="1941480"/>
          <a:ext cx="8713800" cy="4800600"/>
        </p:xfrm>
        <a:graphic>
          <a:graphicData uri="http://schemas.openxmlformats.org/drawingml/2006/table">
            <a:tbl>
              <a:tblPr/>
              <a:tblGrid>
                <a:gridCol w="3025800"/>
                <a:gridCol w="568800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Campi tematic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otivazion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ati progett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nagrafica del progetto per ricondurre in maniera univoca le risposte ad un determinato percorso formativ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ntesto di partenza da cui è nato il fabbisogno dell’intervent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sigenza di rilevare percezione del fabbisogno a cui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 è voluto risponder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ttività svolt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escrizione obiettivi e percorso formativo per attribuire effetti e impatt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ffetti e impatti sui partecipant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ilevazione giudizio in merito ai cambiamenti positivi indotti dall’intervento sulle modalità di lavoro e sull’organizzazion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abbisogn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cepire il fabbisogno soddisfatt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533520" y="83808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640080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335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8487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848720" y="3503520"/>
            <a:ext cx="0" cy="289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">
            <a:hlinkClick r:id="rId1" action="ppaction://hlinksldjump"/>
          </p:cNvPr>
          <p:cNvSpPr/>
          <p:nvPr/>
        </p:nvSpPr>
        <p:spPr>
          <a:xfrm>
            <a:off x="2916360" y="260280"/>
            <a:ext cx="316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Esempio: focus grou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4000" y="836640"/>
            <a:ext cx="84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Il focus group coinvolge, solitamente, i partecipanti all’attività formativa, i dirigenti delle unità organizzative di riferimento e dai responsabili dell’intervento formativo; talvolta partecipano solo i destinatari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395280" y="1844640"/>
          <a:ext cx="8497800" cy="4929120"/>
        </p:xfrm>
        <a:graphic>
          <a:graphicData uri="http://schemas.openxmlformats.org/drawingml/2006/table">
            <a:tbl>
              <a:tblPr/>
              <a:tblGrid>
                <a:gridCol w="2951280"/>
                <a:gridCol w="55465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Fas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ttivit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lezione dei partecipant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l gruppo non deve essere più ampio di 10-12 persone; può essere effettuato per campion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elimitazione dei campi tematic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li ambiti tematici devono essere necessariamente circoscritti e tenuti al centro della discussione: fabbisogno iniziale, punti di forza e di criticità della realizzazione, effetti sui partecipant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celta degli animator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 tratta di esperti in metodi di valutazione e dinamiche di gruppo; è preferibile che si tratti di soggetti estern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volgimento della discussion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a sua durata non è mai superiore alle due ore, pertanto vanno ottimizzati i tempi rispetto agli ambiti tematici trattat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nalisi dei risultat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e posizioni emerse vanno interpretat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533520" y="83808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640080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335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8487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848720" y="3503520"/>
            <a:ext cx="0" cy="289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38080" y="5800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La matrice associa all’oggetto della valutazione gli strumenti più appropriat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457200" y="1668600"/>
          <a:ext cx="7715160" cy="4106880"/>
        </p:xfrm>
        <a:graphic>
          <a:graphicData uri="http://schemas.openxmlformats.org/drawingml/2006/table">
            <a:tbl>
              <a:tblPr/>
              <a:tblGrid>
                <a:gridCol w="2206800"/>
                <a:gridCol w="2754000"/>
                <a:gridCol w="275436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Comportamento lavorativ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(individuo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Evidenza delle performa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(u.o. - ente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Interviste individual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44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*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Focus</a:t>
                      </a:r>
                      <a:r>
                        <a:rPr b="0" lang="it-IT" sz="2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 group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44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*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Analisi dat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44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*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Questionari - prov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44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*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3" name=""/>
          <p:cNvSpPr/>
          <p:nvPr/>
        </p:nvSpPr>
        <p:spPr>
          <a:xfrm>
            <a:off x="533520" y="54936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 algn="ctr">
              <a:lnSpc>
                <a:spcPct val="9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Impiego finalizzato degli strumenti all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valutazione di impat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5335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8487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848720" y="3503520"/>
            <a:ext cx="0" cy="289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68360" y="380880"/>
            <a:ext cx="8424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1. Strumenti di valutazione: scelta per tipologia di valutazione e destinatari della formazione (d / b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0" y="1905120"/>
          <a:ext cx="8893080" cy="3921120"/>
        </p:xfrm>
        <a:graphic>
          <a:graphicData uri="http://schemas.openxmlformats.org/drawingml/2006/table">
            <a:tbl>
              <a:tblPr/>
              <a:tblGrid>
                <a:gridCol w="1440000"/>
                <a:gridCol w="1635120"/>
                <a:gridCol w="2022480"/>
                <a:gridCol w="1995480"/>
                <a:gridCol w="1800000"/>
              </a:tblGrid>
              <a:tr h="937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Gradiment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Apprendiment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Applicazione al lavor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Impatto sull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organizzazion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0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irigent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7632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intervista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63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7632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interviste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auto-valutazione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63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interviste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questionario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99cc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analisi dati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focus group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99cc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99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Funzionar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7632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questionario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63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7632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viste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ove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63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interviste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questionario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prove applicate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99cc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analisi dati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focus group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99cc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984600">
                <a:tc>
                  <a:txBody>
                    <a:bodyPr lIns="0" rIns="11448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Altro persona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R="11448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632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questionario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63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632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ove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63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5400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questionario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95400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prove applicate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9cc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analisi dati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9cc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3520" y="640080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335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8487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848720" y="3503520"/>
            <a:ext cx="0" cy="289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50920" y="260280"/>
            <a:ext cx="83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1. Strumenti di valutazione: scelta per tipologia di valutazione e finalità della formazione (d / 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250920" y="1341360"/>
          <a:ext cx="8642160" cy="4926240"/>
        </p:xfrm>
        <a:graphic>
          <a:graphicData uri="http://schemas.openxmlformats.org/drawingml/2006/table">
            <a:tbl>
              <a:tblPr/>
              <a:tblGrid>
                <a:gridCol w="1728720"/>
                <a:gridCol w="1512720"/>
                <a:gridCol w="1774800"/>
                <a:gridCol w="1825920"/>
                <a:gridCol w="1800000"/>
              </a:tblGrid>
              <a:tr h="937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Gradiment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Apprendiment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Applicazione al lavor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Impatto sull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organizzazion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0" rIns="1908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Inseriment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R="1908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7632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questionario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63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7632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ove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63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7560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viste 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56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99cc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560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56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99cc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995040">
                <a:tc>
                  <a:txBody>
                    <a:bodyPr lIns="0" rIns="1908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Aggiornamento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e skill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R="1908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7632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questionario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63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7632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viste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ove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63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7560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ove applicate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56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99cc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560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nalisi dati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ocus group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56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99cc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995040">
                <a:tc>
                  <a:txBody>
                    <a:bodyPr lIns="0" rIns="1908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Sviluppo professiona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R="1908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7632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questionario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63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7632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viste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ove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63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7560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viste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ove applicate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56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99cc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560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nalisi dati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ocus group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56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99cc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993960">
                <a:tc>
                  <a:txBody>
                    <a:bodyPr lIns="0" rIns="1908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Sviluppo manageria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R="1908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632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vista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63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632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viste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uto-valutazione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632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viste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56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9cc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5600" rIns="0" tIns="0" bIns="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nalisi dati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ocus group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56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9cc99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533520" y="83808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520" y="640080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35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487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848720" y="3503520"/>
            <a:ext cx="0" cy="289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916360" y="836640"/>
            <a:ext cx="316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1. Opportunità di applicazione ai contesti: valutazion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di impatto e valutazione di applicazione al lavor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547640" y="2637000"/>
            <a:ext cx="6480360" cy="27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La valutazione dell’impatto sulle organizzazioni e sugli individui in termini di applicazione al lavoro rappresentano i due ambiti valutativi più impegnativi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richiedono un investimento in risorse umane e strument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richiedono contesti idonei: interventi formativi che riguardano specifici gruppi professionali, politiche di cambiamento, filiere di intervent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533520" y="83808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33520" y="640080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35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8487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848720" y="3503520"/>
            <a:ext cx="0" cy="289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24000" y="836640"/>
            <a:ext cx="84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La valutazione di impatto rileva gli effetti durevoli di un intervento sul contesto di riferimento (modalità di lavoro e assetti organizzativi – prodotti e servizi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324000" y="1906560"/>
          <a:ext cx="8569080" cy="4762440"/>
        </p:xfrm>
        <a:graphic>
          <a:graphicData uri="http://schemas.openxmlformats.org/drawingml/2006/table">
            <a:tbl>
              <a:tblPr/>
              <a:tblGrid>
                <a:gridCol w="1996920"/>
                <a:gridCol w="65721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 quali azioni si applic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venti formativi consistenti, quanto agli obiettivi, alla durata e al n. dei partecipanti, nonché ad un insieme di interventi formativi omogenei o ad un piano formativo annua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ipologi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ilevazione dei mutamenti di prestazione lavorativa attraverso il coinvolgimento dei partecipanti e dei dirigenti delle strutture interessate.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ilevazione dei mutamenti sulle organizzazioni attraverso il coinvolgimento dei dirigenti e la misurazione degli </a:t>
                      </a:r>
                      <a:r>
                        <a:rPr b="0" i="1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utput </a:t>
                      </a: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prodotti e servizi, rivolti a utenza interna/esterna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Risorse e requisit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a costo solitamente elevato. La durata della sua applicazione varia da 3 a 12 mesi, in relazione agli interventi da valutare (un corso, un insieme di progetti, un piano) e in relazione al n. di attori coinvolt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iclo di gestione dei processi formativ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 effettua a 6-12 mesi dalla conclusione dell’intervento o del piano formativo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"/>
          <p:cNvSpPr/>
          <p:nvPr/>
        </p:nvSpPr>
        <p:spPr>
          <a:xfrm>
            <a:off x="2916360" y="189000"/>
            <a:ext cx="316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 algn="ctr">
              <a:lnSpc>
                <a:spcPct val="9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Opportunità di applicazione della valutazione di impat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3520" y="83808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3520" y="640080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8487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848720" y="3503520"/>
            <a:ext cx="0" cy="289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324000" y="2521080"/>
          <a:ext cx="8569080" cy="2131920"/>
        </p:xfrm>
        <a:graphic>
          <a:graphicData uri="http://schemas.openxmlformats.org/drawingml/2006/table">
            <a:tbl>
              <a:tblPr/>
              <a:tblGrid>
                <a:gridCol w="1996920"/>
                <a:gridCol w="65721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Discent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Questionari di valutazione del gradimento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Questionari di valutazione successiva (a 3-6 mesi dal corso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Questionari di valutazione per corsi </a:t>
                      </a:r>
                      <a:r>
                        <a:rPr b="0" i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-learnin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Dirigent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Questionari di valutazione di impatto sull’applicazione al lavoro dell’individuo e sull’u.o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Docent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Questionario di valutazione del gradiment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6" name=""/>
          <p:cNvSpPr/>
          <p:nvPr/>
        </p:nvSpPr>
        <p:spPr>
          <a:xfrm>
            <a:off x="2916360" y="1125360"/>
            <a:ext cx="316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 algn="ctr">
              <a:lnSpc>
                <a:spcPct val="9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Casi di valutazione: Agenzia delle Doga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83808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640080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8487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3503520"/>
            <a:ext cx="0" cy="289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16360" y="692280"/>
            <a:ext cx="316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Program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1484280"/>
            <a:ext cx="763272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989000"/>
            <a:ext cx="7777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93880" indent="-43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1.1 tipologie di valutazione: finalità, caratteristiche e opportunità di applicazione alle diverse casistiche – </a:t>
            </a:r>
            <a:r>
              <a:rPr b="0" i="1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1° par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93880" indent="-43668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93880" indent="-43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1.2 valutazione di gradiment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93880" indent="-43668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93880" indent="-43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1.3 valutazione dell’apprendiment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93880" indent="-43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93880" indent="-43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1.4 valutazione dell’applicazione al lavor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93880" indent="-43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893880" indent="-43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1.5 valutazione dell’impatto sull’organizz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3520" y="83808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640080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35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8487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848720" y="3503520"/>
            <a:ext cx="0" cy="289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11280" y="2349360"/>
          <a:ext cx="8064360" cy="3151440"/>
        </p:xfrm>
        <a:graphic>
          <a:graphicData uri="http://schemas.openxmlformats.org/drawingml/2006/table">
            <a:tbl>
              <a:tblPr/>
              <a:tblGrid>
                <a:gridCol w="1879560"/>
                <a:gridCol w="6184800"/>
              </a:tblGrid>
              <a:tr h="21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Partecipant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Questionari per la valutazione di: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buClr>
                          <a:srgbClr val="003366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ocente, preparazione professional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buClr>
                          <a:srgbClr val="003366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ntenuti e metodologia dei cors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buClr>
                          <a:srgbClr val="003366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tilità del corso per il miglioramento professional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buClr>
                          <a:srgbClr val="003366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pplicabilità dei contenuti del corso al lavor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buClr>
                          <a:srgbClr val="003366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tilità del corso al miglioramento del servizi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Dirigent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Questionari per la valutazione di: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buClr>
                          <a:srgbClr val="003366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tilità del corso al miglioramento del servizi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"/>
          <p:cNvSpPr/>
          <p:nvPr/>
        </p:nvSpPr>
        <p:spPr>
          <a:xfrm>
            <a:off x="2916360" y="1125360"/>
            <a:ext cx="316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 algn="ctr">
              <a:lnSpc>
                <a:spcPct val="9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Casi di valutazione: Ministero per i Beni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e le attività cultural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533520" y="83808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3520" y="640080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35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8487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848720" y="3503520"/>
            <a:ext cx="0" cy="289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916360" y="765000"/>
            <a:ext cx="316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 algn="ctr">
              <a:lnSpc>
                <a:spcPct val="9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Casi di valutazione: Ministero per l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Attività produt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665280" y="2060640"/>
          <a:ext cx="7848360" cy="3384360"/>
        </p:xfrm>
        <a:graphic>
          <a:graphicData uri="http://schemas.openxmlformats.org/drawingml/2006/table">
            <a:tbl>
              <a:tblPr/>
              <a:tblGrid>
                <a:gridCol w="1828800"/>
                <a:gridCol w="6019560"/>
              </a:tblGrid>
              <a:tr h="34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Partecipant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Questionario per la valutazione di: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buClr>
                          <a:srgbClr val="003366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adimento su organizzazione, docente, ecc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Questionario per la valutazione di: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buClr>
                          <a:srgbClr val="003366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ifficoltà nell’affrontare il percorso formativ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buClr>
                          <a:srgbClr val="003366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sperienza – aspettativ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buClr>
                          <a:srgbClr val="003366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ocenz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buClr>
                          <a:srgbClr val="003366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tilità nell’ambito lavorativ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buClr>
                          <a:srgbClr val="003366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tilità a livello personal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buClr>
                          <a:srgbClr val="003366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cezione e reazione al percorso formativ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buClr>
                          <a:srgbClr val="003366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tilità di attivazione di altri interventi formativ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533520" y="83808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33520" y="640080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335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8487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848720" y="3503520"/>
            <a:ext cx="0" cy="289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916360" y="1217520"/>
            <a:ext cx="316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 algn="ctr">
              <a:lnSpc>
                <a:spcPct val="9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Casi di valutazione: Agenzia delle Entra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684360" y="2368440"/>
          <a:ext cx="7848360" cy="2860560"/>
        </p:xfrm>
        <a:graphic>
          <a:graphicData uri="http://schemas.openxmlformats.org/drawingml/2006/table">
            <a:tbl>
              <a:tblPr/>
              <a:tblGrid>
                <a:gridCol w="1828800"/>
                <a:gridCol w="6019560"/>
              </a:tblGrid>
              <a:tr h="80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Partecipant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Questionari per la valutazione di: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buClr>
                          <a:srgbClr val="003366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adimento su organizzazione, docente, ecc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05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U.O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Questionari per la valutazione di: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buClr>
                          <a:srgbClr val="003366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tilità per l’attività lavorativ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buClr>
                          <a:srgbClr val="003366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iglioramento delle competenze del personale coinvolt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buClr>
                          <a:srgbClr val="003366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erenza tra durata e argomenti trattat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buClr>
                          <a:srgbClr val="003366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empestività di erogazione rispetto all’utilizzo nell’attività lavorativ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Arial"/>
              </a:rPr>
              <a:t>Esempio di applicazione</a:t>
            </a:r>
            <a:endParaRPr b="1" lang="en-US" sz="15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62064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95360" indent="-495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2. Prima definizione della fase di speriment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971640" y="227664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Obiettivi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- definire un programma di lavoro finalizzato a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 testare i modelli e le metodologie progetta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71640" y="3357720"/>
            <a:ext cx="80643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Attività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- elaborazione del piano: enti, ambiti, metodologie,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 finalità, </a:t>
            </a:r>
            <a:r>
              <a:rPr b="0" i="1" lang="it-IT" sz="2000" spc="-1" strike="noStrike">
                <a:solidFill>
                  <a:srgbClr val="003366"/>
                </a:solidFill>
                <a:latin typeface="Arial"/>
              </a:rPr>
              <a:t>team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di lavoro, </a:t>
            </a:r>
            <a:r>
              <a:rPr b="0" i="1" lang="it-IT" sz="2000" spc="-1" strike="noStrike">
                <a:solidFill>
                  <a:srgbClr val="003366"/>
                </a:solidFill>
                <a:latin typeface="Arial"/>
              </a:rPr>
              <a:t>output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fina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- legittimazione del vertice: condivisione delle ipotesi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 di sperimentazione con il gruppo di 1° livello 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- verifica con la committenza: Dipartimento della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 Funzione pubblica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71640" y="112536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Obiettivi e attività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Arial"/>
              </a:rPr>
              <a:t>Esempio di applicazione</a:t>
            </a:r>
            <a:endParaRPr b="1" lang="en-US" sz="15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62064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95360" indent="-495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2. Prima definizione della fase di speriment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971640" y="2190600"/>
            <a:ext cx="799308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Presupposti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- auto-candidatura delle Amministrazion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- partecipazione alla fase di progettazione dei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 Laborator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- attivazione di un </a:t>
            </a:r>
            <a:r>
              <a:rPr b="0" i="1" lang="it-IT" sz="2000" spc="-1" strike="noStrike">
                <a:solidFill>
                  <a:srgbClr val="003366"/>
                </a:solidFill>
                <a:latin typeface="Arial"/>
              </a:rPr>
              <a:t>team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di lavoro: Amministrazione e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 Consorzio Mipa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- legittimazione del vertice dell’Amministr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- condivisione con il </a:t>
            </a:r>
            <a:r>
              <a:rPr b="0" i="1" lang="it-IT" sz="2000" spc="-1" strike="noStrike">
                <a:solidFill>
                  <a:srgbClr val="003366"/>
                </a:solidFill>
                <a:latin typeface="Arial"/>
              </a:rPr>
              <a:t>team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di lavoro delle informazioni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 sulle azioni formative realizzate nell’ultimo ann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- individuazione di obiettivi commisurati alle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 condizioni di partenz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71640" y="108756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Presupposti per la realizzazione della speriment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1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1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10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10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10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Arial"/>
              </a:rPr>
              <a:t>Esempio di applicazione</a:t>
            </a:r>
            <a:endParaRPr b="1" lang="en-US" sz="15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62064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95360" indent="-495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2. Prima definizione della fase di speriment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971640" y="112536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Oggetto della sperimentazione: programmazione (esempi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393840" y="2270160"/>
          <a:ext cx="8281800" cy="3259080"/>
        </p:xfrm>
        <a:graphic>
          <a:graphicData uri="http://schemas.openxmlformats.org/drawingml/2006/table">
            <a:tbl>
              <a:tblPr/>
              <a:tblGrid>
                <a:gridCol w="2376360"/>
                <a:gridCol w="2952720"/>
                <a:gridCol w="2952720"/>
              </a:tblGrid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6699"/>
                          </a:solidFill>
                          <a:latin typeface="Arial"/>
                          <a:ea typeface="Times New Roman"/>
                        </a:rPr>
                        <a:t>Ambit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6699"/>
                          </a:solidFill>
                          <a:latin typeface="Arial"/>
                          <a:ea typeface="Times New Roman"/>
                        </a:rPr>
                        <a:t>Oggetto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6699"/>
                          </a:solidFill>
                          <a:latin typeface="Arial"/>
                          <a:ea typeface="Times New Roman"/>
                        </a:rPr>
                        <a:t>Presuppost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6699"/>
                          </a:solidFill>
                          <a:latin typeface="Arial"/>
                          <a:ea typeface="Times New Roman"/>
                        </a:rPr>
                        <a:t>Programmazion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79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79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99"/>
                          </a:solidFill>
                          <a:latin typeface="Arial"/>
                          <a:ea typeface="Times New Roman"/>
                        </a:rPr>
                        <a:t>Analisi “multi attore” dei fabbisogni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79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79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79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99"/>
                          </a:solidFill>
                          <a:latin typeface="Arial"/>
                          <a:ea typeface="Times New Roman"/>
                        </a:rPr>
                        <a:t>Disponibilità al coinvolgimento dei diversi attori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79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79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99"/>
                          </a:solidFill>
                          <a:latin typeface="Arial"/>
                          <a:ea typeface="Times New Roman"/>
                        </a:rPr>
                        <a:t>Politiche formative “differenziate”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79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79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99"/>
                          </a:solidFill>
                          <a:latin typeface="Arial"/>
                          <a:ea typeface="Times New Roman"/>
                        </a:rPr>
                        <a:t>Orientamento alla cooperazione interistituzional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Arial"/>
              </a:rPr>
              <a:t>Esempio di applicazione</a:t>
            </a:r>
            <a:endParaRPr b="1" lang="en-US" sz="15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62064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95360" indent="-495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2. Prima definizione della fase di speriment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971640" y="112536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Oggetto della sperimentazione: valutazione (esempi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468360" y="1844640"/>
          <a:ext cx="8675640" cy="3889440"/>
        </p:xfrm>
        <a:graphic>
          <a:graphicData uri="http://schemas.openxmlformats.org/drawingml/2006/table">
            <a:tbl>
              <a:tblPr/>
              <a:tblGrid>
                <a:gridCol w="1871640"/>
                <a:gridCol w="3168720"/>
                <a:gridCol w="363528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666699"/>
                          </a:solidFill>
                          <a:latin typeface="Arial"/>
                          <a:ea typeface="Times New Roman"/>
                        </a:rPr>
                        <a:t>Ambit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666699"/>
                          </a:solidFill>
                          <a:latin typeface="Arial"/>
                          <a:ea typeface="Times New Roman"/>
                        </a:rPr>
                        <a:t>Oggett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666699"/>
                          </a:solidFill>
                          <a:latin typeface="Arial"/>
                          <a:ea typeface="Times New Roman"/>
                        </a:rPr>
                        <a:t>Presuppost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8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666699"/>
                          </a:solidFill>
                          <a:latin typeface="Arial"/>
                          <a:ea typeface="Times New Roman"/>
                        </a:rPr>
                        <a:t>Valutazione in itinere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666699"/>
                          </a:solidFill>
                          <a:latin typeface="Arial"/>
                          <a:ea typeface="Times New Roman"/>
                        </a:rPr>
                        <a:t>Valutazione ex pos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666699"/>
                          </a:solidFill>
                          <a:latin typeface="Arial"/>
                          <a:ea typeface="Times New Roman"/>
                        </a:rPr>
                        <a:t>Monitoraggio qualitativo di azioni formative su ampia scala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79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666699"/>
                          </a:solidFill>
                          <a:latin typeface="Arial"/>
                          <a:ea typeface="Times New Roman"/>
                        </a:rPr>
                        <a:t>Attività formative lunghe o articolate in più edizion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666699"/>
                          </a:solidFill>
                          <a:latin typeface="Arial"/>
                          <a:ea typeface="Times New Roman"/>
                        </a:rPr>
                        <a:t>Valutazione di impatto sull’organizzazione della formazione manageria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79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666699"/>
                          </a:solidFill>
                          <a:latin typeface="Arial"/>
                          <a:ea typeface="Times New Roman"/>
                        </a:rPr>
                        <a:t>Attività formative rivolte a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79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666699"/>
                          </a:solidFill>
                          <a:latin typeface="Arial"/>
                          <a:ea typeface="Times New Roman"/>
                        </a:rPr>
                        <a:t>quadri o dirigenti concluse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79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666699"/>
                          </a:solidFill>
                          <a:latin typeface="Arial"/>
                          <a:ea typeface="Times New Roman"/>
                        </a:rPr>
                        <a:t>da 3 - 9 mes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666699"/>
                          </a:solidFill>
                          <a:latin typeface="Arial"/>
                          <a:ea typeface="Times New Roman"/>
                        </a:rPr>
                        <a:t>Strumenti di verifica dell’apprendimento su “materie” tipiche della P.A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79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666699"/>
                          </a:solidFill>
                          <a:latin typeface="Arial"/>
                          <a:ea typeface="Times New Roman"/>
                        </a:rPr>
                        <a:t>Attività formative in corso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79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666699"/>
                          </a:solidFill>
                          <a:latin typeface="Arial"/>
                          <a:ea typeface="Times New Roman"/>
                        </a:rPr>
                        <a:t>con contenuti pertinent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Arial"/>
              </a:rPr>
              <a:t>Esempio di applicazione</a:t>
            </a:r>
            <a:endParaRPr b="1" lang="en-US" sz="15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62064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95360" indent="-495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2. Prima definizione della fase di speriment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971640" y="112536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Oggetto della sperimentazione: sistemi informativi (esempi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539640" y="2451240"/>
          <a:ext cx="8136000" cy="1914480"/>
        </p:xfrm>
        <a:graphic>
          <a:graphicData uri="http://schemas.openxmlformats.org/drawingml/2006/table">
            <a:tbl>
              <a:tblPr/>
              <a:tblGrid>
                <a:gridCol w="1981440"/>
                <a:gridCol w="2987640"/>
                <a:gridCol w="316692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666699"/>
                          </a:solidFill>
                          <a:latin typeface="Arial"/>
                          <a:ea typeface="Times New Roman"/>
                        </a:rPr>
                        <a:t>Ambit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666699"/>
                          </a:solidFill>
                          <a:latin typeface="Arial"/>
                          <a:ea typeface="Times New Roman"/>
                        </a:rPr>
                        <a:t>Oggett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666699"/>
                          </a:solidFill>
                          <a:latin typeface="Arial"/>
                          <a:ea typeface="Times New Roman"/>
                        </a:rPr>
                        <a:t>Presuppost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666699"/>
                          </a:solidFill>
                          <a:latin typeface="Arial"/>
                          <a:ea typeface="Times New Roman"/>
                        </a:rPr>
                        <a:t>Sistemi informativi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79200"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666699"/>
                          </a:solidFill>
                          <a:latin typeface="Arial"/>
                          <a:ea typeface="Times New Roman"/>
                        </a:rPr>
                        <a:t>Criteri per l’acquisizione di un sistema informativo dedicato alla formazion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79200"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666699"/>
                          </a:solidFill>
                          <a:latin typeface="Arial"/>
                          <a:ea typeface="Times New Roman"/>
                        </a:rPr>
                        <a:t>Previsione di acquisto di un sistema informativo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Arial"/>
              </a:rPr>
              <a:t>Esempio di applicazione</a:t>
            </a:r>
            <a:endParaRPr b="1" lang="en-US" sz="15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26028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95360" indent="-495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2. Prima definizione della fase di speriment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971640" y="69228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Attività e modalità di lavoro della speriment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468360" y="984240"/>
          <a:ext cx="8280360" cy="5613480"/>
        </p:xfrm>
        <a:graphic>
          <a:graphicData uri="http://schemas.openxmlformats.org/drawingml/2006/table">
            <a:tbl>
              <a:tblPr/>
              <a:tblGrid>
                <a:gridCol w="1666800"/>
                <a:gridCol w="4668840"/>
                <a:gridCol w="1944720"/>
              </a:tblGrid>
              <a:tr h="389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Modalit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emp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ssistenza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in presenza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3366"/>
                        </a:buClr>
                        <a:buFont typeface="Symbol" charset="2"/>
                        <a:buChar char="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° incontro: il referente del </a:t>
                      </a:r>
                      <a:r>
                        <a:rPr b="0" i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eam</a:t>
                      </a: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 di progetto condivide con l’ente una proposta di sperimentazione e si definiscono gli impegni reciproci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3366"/>
                        </a:buClr>
                        <a:buFont typeface="Symbol" charset="2"/>
                        <a:buChar char="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° incontro: verifica dell’avvio della sperimentazione da parte dell’ente e realizzazione delle prime attivit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3366"/>
                        </a:buClr>
                        <a:buFont typeface="Symbol" charset="2"/>
                        <a:buChar char="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° incontro: verifica degli outpu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3366"/>
                        </a:buClr>
                        <a:buFont typeface="Symbol" charset="2"/>
                        <a:buChar char=""/>
                        <a:tabLst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ltri incontri: in funzione dell’andament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luglio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ettembr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ssistenza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 distanz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Monitoraggio da parte del referente del </a:t>
                      </a:r>
                      <a:r>
                        <a:rPr b="0" i="1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eam</a:t>
                      </a: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 di lavoro sull’andamento delle attività tra un incontro e l’altro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3366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rispetto impegni e scadenz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3366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criticità incontrate e possibili soluzion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3366"/>
                        </a:buClr>
                        <a:buSzPct val="75000"/>
                        <a:buFont typeface="Symbol" charset="2"/>
                        <a:buChar char=""/>
                        <a:tabLst>
                          <a:tab algn="l" pos="31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problematiche di interpretazione e applicazione delle metodologi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luglio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ettembr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Arial"/>
              </a:rPr>
              <a:t>Esempio di applicazione</a:t>
            </a:r>
            <a:endParaRPr b="1" lang="en-US" sz="15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62064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95360" indent="-495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2. Prima definizione della fase di speriment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971640" y="2190600"/>
            <a:ext cx="79930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Output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- rapporti di valut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- schede di analisi di cas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Outcome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- contestualizzazione dei metodi e degli strumenti di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 programmazione, monitoraggio e valutazione della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 formazione </a:t>
            </a:r>
            <a:r>
              <a:rPr b="0" lang="it-IT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Guida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971640" y="108756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Risultati attesi dalla speriment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83808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640080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8487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848720" y="3503520"/>
            <a:ext cx="0" cy="289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2916360" y="692280"/>
            <a:ext cx="316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Program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1484280"/>
            <a:ext cx="763272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2222640"/>
            <a:ext cx="8280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4446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Arial"/>
              </a:rPr>
              <a:t>2.1 termini di speriment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1444680" indent="-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14446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Arial"/>
              </a:rPr>
              <a:t>2.2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autocandidatura delle amministrazioni e azioni formative realizzate nell’ultimo ann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14446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14446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Arial"/>
              </a:rPr>
              <a:t>2.3 prima definizione del piano di speriment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14446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798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3. Prossimo incontro di Laboratorio</a:t>
            </a:r>
            <a:endParaRPr b="1" lang="en-US" sz="28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55640" y="2205000"/>
            <a:ext cx="792000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Giovedì 24 giugno 200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Valutazione di gradimento, apprendimento, applicazione al lavoro, impatto sull’organizzazione </a:t>
            </a:r>
            <a:r>
              <a:rPr b="0" i="1" lang="it-IT" sz="2000" spc="-1" strike="noStrike">
                <a:solidFill>
                  <a:srgbClr val="003366"/>
                </a:solidFill>
                <a:latin typeface="Arial"/>
              </a:rPr>
              <a:t>(2° parte):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finalità, caratteristiche, metodi e opportunità di applic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Sistemi informativi a supporto della </a:t>
            </a:r>
            <a:r>
              <a:rPr b="0" i="1" sz="2000" spc="-1" strike="noStrike">
                <a:solidFill>
                  <a:srgbClr val="003366"/>
                </a:solidFill>
                <a:latin typeface="Arial"/>
              </a:rPr>
              <a:t>governance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della formazione e della gestione delle risorse umane: ciclo formativo e implement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Pianificazione della sperimentazione in quattro P.A. partecipant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3520" y="83808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640080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8487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848720" y="3503520"/>
            <a:ext cx="0" cy="289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16360" y="836640"/>
            <a:ext cx="316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Program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1484280"/>
            <a:ext cx="763272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2122560"/>
            <a:ext cx="8096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4446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Arial"/>
              </a:rPr>
              <a:t>3.1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progettazione delle metodologie di valutazione della formazione – </a:t>
            </a:r>
            <a:r>
              <a:rPr b="0" i="1" lang="it-IT" sz="2000" spc="-1" strike="noStrike">
                <a:solidFill>
                  <a:srgbClr val="003366"/>
                </a:solidFill>
                <a:latin typeface="Arial"/>
              </a:rPr>
              <a:t>2° parte</a:t>
            </a:r>
            <a:r>
              <a:rPr b="1" i="1" lang="it-IT" sz="20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14446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14446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Arial"/>
              </a:rPr>
              <a:t>3.2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sistemi informativi a supporto della </a:t>
            </a:r>
            <a:r>
              <a:rPr b="0" i="1" lang="it-IT" sz="2000" spc="-1" strike="noStrike">
                <a:solidFill>
                  <a:srgbClr val="003366"/>
                </a:solidFill>
                <a:latin typeface="Arial"/>
              </a:rPr>
              <a:t>governance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della formazione e della direzione del persona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14446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14446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Arial"/>
              </a:rPr>
              <a:t>3.3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definizione del piano di sperimentazione</a:t>
            </a:r>
            <a:r>
              <a:rPr b="1" lang="it-IT" sz="20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3520" y="83808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640080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8487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3503520"/>
            <a:ext cx="0" cy="289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848720" y="3503520"/>
            <a:ext cx="0" cy="289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1990800"/>
            <a:ext cx="784872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Riassunt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Giornata di Laboratorio del 10 giugno 200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Approfondiment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Metodologie di valutazione della formazione – </a:t>
            </a:r>
            <a:r>
              <a:rPr b="0" i="1" lang="it-IT" sz="2000" spc="-1" strike="noStrike">
                <a:solidFill>
                  <a:srgbClr val="003366"/>
                </a:solidFill>
                <a:latin typeface="Arial"/>
              </a:rPr>
              <a:t>1° par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Prima definizione della fase di speriment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Prossimo incontro di Laboratorio: 24 giugno 200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43280" y="1052640"/>
            <a:ext cx="31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Temi di ogg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Giornata di Laboratorio del 10 giugno 200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ctr">
              <a:lnSpc>
                <a:spcPct val="7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1701720"/>
            <a:ext cx="792000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177840">
              <a:spcBef>
                <a:spcPts val="751"/>
              </a:spcBef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percorso di lavoro del progetto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: dalla ricognizione delle esperienze all’elaborazione della Guid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57120" indent="-177840">
              <a:spcBef>
                <a:spcPts val="499"/>
              </a:spcBef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sigenze, 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aree di attenzione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e 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variabili rilevanti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per il governo del processo: programmazione, monitoraggio e valutazione </a:t>
            </a:r>
            <a:r>
              <a:rPr b="0" i="1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x-post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degli interventi formativ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57120" indent="-177840">
              <a:spcBef>
                <a:spcPts val="499"/>
              </a:spcBef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modello di riferimento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per la </a:t>
            </a:r>
            <a:r>
              <a:rPr b="0" i="1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governance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della form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57120" indent="-177840">
              <a:spcBef>
                <a:spcPts val="499"/>
              </a:spcBef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fasi, attori e fattori critici del processo di 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programmazione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della form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57120" indent="-177840">
              <a:spcBef>
                <a:spcPts val="499"/>
              </a:spcBef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ruolo dei responsabili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della funzione formazione e approccio alle problematiche di governo della form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57120" indent="-177840">
              <a:spcBef>
                <a:spcPts val="499"/>
              </a:spcBef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assetto organizzativo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e funzionale degli uffici per la formazione del persona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57120" indent="-177840">
              <a:spcBef>
                <a:spcPts val="499"/>
              </a:spcBef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finalità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 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destinatari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della Guid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33520" y="83808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601992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8487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848720" y="3503520"/>
            <a:ext cx="0" cy="289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579600"/>
            <a:ext cx="75438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1. Valutazione della formazione: variabili e strumenti di riferimen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900000" y="3129120"/>
          <a:ext cx="7162920" cy="2027160"/>
        </p:xfrm>
        <a:graphic>
          <a:graphicData uri="http://schemas.openxmlformats.org/drawingml/2006/table">
            <a:tbl>
              <a:tblPr/>
              <a:tblGrid>
                <a:gridCol w="1828800"/>
                <a:gridCol w="2563920"/>
                <a:gridCol w="1133640"/>
                <a:gridCol w="1636560"/>
              </a:tblGrid>
              <a:tr h="610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Dimension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Formazion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Valutazione della formazion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1680">
                <a:tc rowSpan="2">
                  <a:txBody>
                    <a:bodyPr lIns="2304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Variabil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2304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0" tIns="18000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. </a:t>
                      </a:r>
                      <a:r>
                        <a:rPr b="1" lang="it-IT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Finalit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b. </a:t>
                      </a:r>
                      <a:r>
                        <a:rPr b="1" lang="it-IT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Destinatar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0" tIns="18000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c. </a:t>
                      </a:r>
                      <a:r>
                        <a:rPr b="1" lang="it-IT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Moment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d. </a:t>
                      </a:r>
                      <a:r>
                        <a:rPr b="1" lang="it-IT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ipologie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18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900000" y="1700280"/>
            <a:ext cx="806472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Le variabili servono a orientare le scelte di monitoraggio e valutazione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quale metodologia e strumenti usare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dove concentrare gli sforzi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76360" y="5516640"/>
            <a:ext cx="4319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5324400"/>
            <a:ext cx="22320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Strument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83808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6400800"/>
            <a:ext cx="731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848720" y="1476360"/>
            <a:ext cx="0" cy="99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503520"/>
            <a:ext cx="0" cy="289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1660680"/>
            <a:ext cx="7010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2109960"/>
            <a:ext cx="4267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066680" y="1752480"/>
          <a:ext cx="7521840" cy="4191120"/>
        </p:xfrm>
        <a:graphic>
          <a:graphicData uri="http://schemas.openxmlformats.org/drawingml/2006/table">
            <a:tbl>
              <a:tblPr/>
              <a:tblGrid>
                <a:gridCol w="2281320"/>
                <a:gridCol w="5240520"/>
              </a:tblGrid>
              <a:tr h="381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1627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Finalit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Descrizion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Inseriment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11448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666699"/>
                          </a:solidFill>
                          <a:latin typeface="Arial"/>
                          <a:ea typeface="Times New Roman"/>
                        </a:rPr>
                        <a:t>integrare i neo assunti nel nuovo ambiente e nel ruolo loro assegnato</a:t>
                      </a:r>
                      <a:r>
                        <a:rPr b="0" lang="it-IT" sz="2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11448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ggiornamento e </a:t>
                      </a:r>
                      <a:r>
                        <a:rPr b="0" i="1" lang="it-IT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kill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11448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666699"/>
                          </a:solidFill>
                          <a:latin typeface="Arial"/>
                          <a:ea typeface="Arial"/>
                        </a:rPr>
                        <a:t>trasferire specifiche conoscenze di carattere tecnico o normativo, strettamente legate all’operatività del ruol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11448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viluppo professional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11448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666699"/>
                          </a:solidFill>
                          <a:latin typeface="Arial"/>
                          <a:ea typeface="Arial"/>
                        </a:rPr>
                        <a:t>ampliare e arricchire le conoscenze e le capacità relative ad una specifica area professionale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11448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viluppo managerial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954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666699"/>
                          </a:solidFill>
                          <a:latin typeface="Arial"/>
                          <a:ea typeface="Times New Roman"/>
                        </a:rPr>
                        <a:t>sviluppare le competenze di carattere gestionale; si caratterizza per il contenuto tendenzialmente trasversale ai settori</a:t>
                      </a:r>
                      <a:r>
                        <a:rPr b="0" lang="it-IT" sz="2000" spc="-1" strike="noStrike">
                          <a:solidFill>
                            <a:srgbClr val="66669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762120" y="620640"/>
            <a:ext cx="754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1. a Finalità della form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9T09:46:00Z</dcterms:created>
  <dc:creator>torda</dc:creator>
  <dc:description/>
  <dc:language>en-US</dc:language>
  <cp:lastModifiedBy>APOLIDE</cp:lastModifiedBy>
  <dcterms:modified xsi:type="dcterms:W3CDTF">2004-07-05T09:21:59Z</dcterms:modified>
  <cp:revision>511</cp:revision>
  <dc:subject/>
  <dc:title> Una opportunità per vivere la sfida dell’innovazione nella P.A.</dc:title>
</cp:coreProperties>
</file>