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352C42-2C2A-41D0-BE95-80ED23F770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b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129A-7B02-497F-B46A-FFE066FA0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244D-818A-405E-B6AB-A13CA6F0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F992-6514-4C22-AA10-33C7116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821D-3199-43E6-BBFE-3ED91461B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F4684-A667-46AB-A88D-36018870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83B51-080A-43A2-944F-AEA2277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8E59E-BF68-4AEA-A811-3C27215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3CD7-3047-4CE6-B77E-E7C31D89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4F36D-7BFD-4D76-9D4D-6D35560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4DB9-0EF6-4784-9F06-DFCD564C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7C23-4EEA-4D51-93FE-847DCF8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3138-ACC8-4203-AA3A-0741920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57E7E-326A-4C1E-8E85-F283EE5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3E0A-C828-47A7-888E-9A1FBE8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5EC4-6116-484F-91DB-5A2C1F97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1241A-4066-43E8-9C34-E7AA5CD9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CE2D-A5BF-4BAA-A2D2-DF32FE14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347D-DF80-4454-9F04-027E4288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D00D-2E54-453C-AF0E-765579D5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C46A-9C5F-4862-B7A8-2AA8E0A4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8DE0-4DED-482F-86A1-46A56E1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FEC0-946E-4F02-BB5B-B6EADCA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C6F5-115F-4E72-B648-E0C0E33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301B-4E96-4C5B-826A-DF731C9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5146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2" marL="955800" indent="-22860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3" marL="1374840" indent="-228600">
              <a:spcBef>
                <a:spcPts val="60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4" marL="1771560" indent="-206280">
              <a:spcBef>
                <a:spcPts val="60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5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6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14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439320"/>
            <a:ext cx="533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26F-F138-47B3-B5A4-BA199B512D47}" type="slidenum">
              <a:rPr b="1" lang="it-IT" sz="1600" spc="-1" strike="noStrike">
                <a:solidFill>
                  <a:srgbClr val="ba3e1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54516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&lt;date/time&gt;</a:t>
            </a: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Monitoraggio e valutazione della formazione. Il Laboratorio del Dipartimento della Funzione Pubbl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456840" y="6368040"/>
            <a:ext cx="676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6FB-A344-48B7-B739-5200D43F6199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36720" y="211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91520" y="304920"/>
            <a:ext cx="1447560" cy="1218600"/>
            <a:chOff x="7391520" y="304920"/>
            <a:chExt cx="1447560" cy="12186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723440" y="304920"/>
              <a:ext cx="7707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7391520" y="1227960"/>
              <a:ext cx="144756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815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4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" name="logo LeA e pay off1" descr=""/>
          <p:cNvPicPr/>
          <p:nvPr/>
        </p:nvPicPr>
        <p:blipFill>
          <a:blip r:embed="rId5"/>
          <a:stretch/>
        </p:blipFill>
        <p:spPr>
          <a:xfrm>
            <a:off x="228600" y="519120"/>
            <a:ext cx="34290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7002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Monitoraggio e valutazione </a:t>
            </a:r>
            <a:br>
              <a:rPr sz="2800"/>
            </a:b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della formazione </a:t>
            </a:r>
            <a:br>
              <a:rPr sz="28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Il Laboratorio del Dipartimento della </a:t>
            </a:r>
            <a:br>
              <a:rPr sz="26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Funzione Pubblica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6400" y="5300640"/>
            <a:ext cx="5943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oma, giovedì 24 giugno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ia Cavour 50/a, sala Aventino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542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8172360" y="0"/>
            <a:ext cx="971640" cy="764640"/>
            <a:chOff x="8172360" y="0"/>
            <a:chExt cx="971640" cy="76464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8395200" y="0"/>
              <a:ext cx="517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8172360" y="579240"/>
              <a:ext cx="97164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24720" y="6529320"/>
            <a:ext cx="1619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109960"/>
            <a:ext cx="426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2730600"/>
            <a:ext cx="42674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irig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unzionari (categoria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tro personale (categorie A e 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052640"/>
            <a:ext cx="754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V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riabili del modello: destinata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105520" y="4419720"/>
            <a:ext cx="1904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6477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44197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6477120"/>
            <a:ext cx="6400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3520" y="1341360"/>
          <a:ext cx="8076960" cy="2374920"/>
        </p:xfrm>
        <a:graphic>
          <a:graphicData uri="http://schemas.openxmlformats.org/drawingml/2006/table">
            <a:tbl>
              <a:tblPr/>
              <a:tblGrid>
                <a:gridCol w="2093760"/>
                <a:gridCol w="5983200"/>
              </a:tblGrid>
              <a:tr h="93816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d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114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viduazione degli aspetti qualitativi rilevanti della formazione e dei singoli fattori di qualità della formazione;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rend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4480" rIns="0" tIns="1144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alutazione in termini di apprendimento individuale, secondo le aree del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pere (conoscenze teoriche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per essere (comportamenti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39640" y="4073400"/>
          <a:ext cx="8064720" cy="2379960"/>
        </p:xfrm>
        <a:graphic>
          <a:graphicData uri="http://schemas.openxmlformats.org/drawingml/2006/table">
            <a:tbl>
              <a:tblPr/>
              <a:tblGrid>
                <a:gridCol w="2087640"/>
                <a:gridCol w="5977080"/>
              </a:tblGrid>
              <a:tr h="113040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licazione al lavo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108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alutazione delle capacità di impiego effettivo dei saperi nelle attività svolte: saper fare (capacità applicativa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08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124956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atto sull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ganizz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10800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cadute di medio - lungo termine della formazione rispetto gli output e agli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come 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le strutture (unità organizzative - ente) di appartenenza dei partecipa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08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50920" y="549360"/>
            <a:ext cx="849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V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riabili del modello: tipologie di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33520"/>
            <a:ext cx="5638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 Strumenti del modello di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5867280"/>
            <a:ext cx="4267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1447920"/>
          <a:ext cx="8299440" cy="4662360"/>
        </p:xfrm>
        <a:graphic>
          <a:graphicData uri="http://schemas.openxmlformats.org/drawingml/2006/table">
            <a:tbl>
              <a:tblPr/>
              <a:tblGrid>
                <a:gridCol w="1974960"/>
                <a:gridCol w="6324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Strumenti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mbito di applic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alisi document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Pre-condizione dell’intero processo formativo; è uno strumento di valutazione delle condizioni di partenza e le prospettive di arrivo della formazione. La qualità del suo </a:t>
                      </a:r>
                      <a:r>
                        <a:rPr b="0" i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output</a:t>
                      </a: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 aumenta i relazione alla disponibilità di un’efficace sistema informativo su formazione e pers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ea typeface="Times New Roman"/>
                          <a:hlinkClick r:id="rId1" action="ppaction://hlinksldjump"/>
                        </a:rPr>
                        <a:t>Interviste diret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engono con finalità specifiche nella valutazione delle diverse fasi del processo formativo. Possono contribuire alla raccolta e razionalizzazione di informazioni necessarie ad alimentare il sistema informativo eventualmente at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ea typeface="Times New Roman"/>
                          <a:hlinkClick r:id="rId2" action="ppaction://hlinksldjump"/>
                        </a:rPr>
                        <a:t>Focus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alisi da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Questiona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80880"/>
            <a:ext cx="84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Strumenti di valutazione: tipologia di valutazione e destinatari della formazione (d /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905120"/>
          <a:ext cx="8893080" cy="3933720"/>
        </p:xfrm>
        <a:graphic>
          <a:graphicData uri="http://schemas.openxmlformats.org/drawingml/2006/table">
            <a:tbl>
              <a:tblPr/>
              <a:tblGrid>
                <a:gridCol w="1440000"/>
                <a:gridCol w="1635120"/>
                <a:gridCol w="2022480"/>
                <a:gridCol w="1995480"/>
                <a:gridCol w="1800000"/>
              </a:tblGrid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ra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ren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licazione al lavor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atto sul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rganizz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rige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a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-valutazion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unzion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98568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tro pers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6028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Strumenti di valutazione: tipologia di valutazione e finalità della formazione (d / 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341360"/>
          <a:ext cx="8642160" cy="4926240"/>
        </p:xfrm>
        <a:graphic>
          <a:graphicData uri="http://schemas.openxmlformats.org/drawingml/2006/table">
            <a:tbl>
              <a:tblPr/>
              <a:tblGrid>
                <a:gridCol w="1728720"/>
                <a:gridCol w="1512720"/>
                <a:gridCol w="1800360"/>
                <a:gridCol w="1800360"/>
                <a:gridCol w="1800000"/>
              </a:tblGrid>
              <a:tr h="93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ra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ren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licazione al lavor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atto sul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rganizz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ser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 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99504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ggiornamen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 skil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99504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viluppo professi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99396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viluppo manageri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a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-valutazion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105264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Oggetto della valutazione di impa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374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li strumenti di valutazione di impatto si utilizzano in funzione dell’oggetto di osservazion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3378240"/>
            <a:ext cx="460872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mportamento lavor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perienza formativa individu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.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videnza delle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perienza formativa collet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587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matrice associa all’oggetto della valutazione gli strumenti più appropria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1521000"/>
          <a:ext cx="8569080" cy="4101840"/>
        </p:xfrm>
        <a:graphic>
          <a:graphicData uri="http://schemas.openxmlformats.org/drawingml/2006/table">
            <a:tbl>
              <a:tblPr/>
              <a:tblGrid>
                <a:gridCol w="1687320"/>
                <a:gridCol w="2557440"/>
                <a:gridCol w="2559240"/>
                <a:gridCol w="1765080"/>
              </a:tblGrid>
              <a:tr h="1078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ortamento lavo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individu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idenza delle perform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u.o. - ente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erienz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tiva individu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 individua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767520">
                <a:tc>
                  <a:txBody>
                    <a:bodyPr lIns="0" rIns="72000" tIns="3600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erienza formativa collettiv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</a:t>
                      </a: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670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  <a:tr h="670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- pro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2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533520" y="260280"/>
            <a:ext cx="815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mpiego finalizzato degli strumenti all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utazione di impa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83664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Opportunità di applicazione ai contesti: valu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 impatto e valutazione di applicazione al lavo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637000"/>
            <a:ext cx="64803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valutazione dell’impatto sulle organizzazioni e sugli individui in termini di applicazione al lavoro rappresentano i due ambiti valutativi più impegnativi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chiedono un investimento in risorse umane e 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chiedono contesti idonei: interventi formativi che riguardano specifici gruppi professionali, politiche di cambiamento, filiere di interv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836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valutazione di impatto rileva gli effetti durevoli di un intervento sul contesto di riferimento (modalità di lavoro e assetti organizzativi – prodotti e serviz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24000" y="1906560"/>
          <a:ext cx="8569080" cy="4818240"/>
        </p:xfrm>
        <a:graphic>
          <a:graphicData uri="http://schemas.openxmlformats.org/drawingml/2006/table">
            <a:tbl>
              <a:tblPr/>
              <a:tblGrid>
                <a:gridCol w="1996920"/>
                <a:gridCol w="6572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 quali azioni si appl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enti formativi consistenti, quanto agli obiettivi, alla durata e al n. dei partecipanti, nonché ad un insieme di interventi formativi omogenei o ad un piano formativo annu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ipolog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levazione dei mutamenti di prestazione lavorativa attraverso il coinvolgimento dei partecipanti e dei dirigenti delle strutture interessate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levazione dei mutamenti sulle organizzazioni attraverso il coinvolgimento dei dirigenti e la misurazione degli </a:t>
                      </a: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prodotti e servizi, rivolti a utenza interna/estern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isorse e requis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 costo solitamente elevato. La durata della sua applicazione varia da 3 a 12 mesi, in relazione agli interventi da valutare (un corso, un insieme di progetti, un piano) e in relazione al n. di attori coinvol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iclo di gestione dell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 effettua a 6-12 mesi dalla conclusione dell’intervento o del piano formativ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2916360" y="18900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pportunità di applicazione della valutazione di imp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2720" y="1739880"/>
            <a:ext cx="799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’ un insieme strutturato di dati interrelati tra loro, che fornisce base conoscitiva informativa per l’applicazione di tutti i sistemi di gestione del personale, tra cui 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2720" y="2892600"/>
            <a:ext cx="8352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’assetto organizzativo, infatti, è definito dalla configurazione delle diverse variabili organizzativ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truttura organizzativa (struttur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stemi (e meccanismi) operativi di programmazione (procedur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ultura organizzativa (cul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trumenti (risor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720" y="4979880"/>
            <a:ext cx="799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non si dispone di un sistema informativo solo con un insieme di dati, bensì con una struttura logica di dati, finalità degli stessi, metodi di riferimento e utilizz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Costa 1997: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76500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917720"/>
            <a:ext cx="741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gettazione delle metodologie di valutazione della formazione: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°p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321300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31800" indent="-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Sistemi informativi a supporto della governance della formazione e della direzione del pers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797360"/>
            <a:ext cx="81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3180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Definizione del piano di speriment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1700280"/>
            <a:ext cx="7991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aratteristiche essenziali di un sistema informativo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2720" y="2421000"/>
            <a:ext cx="813600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mogene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dei criteri di classificazione delle informazioni che costituiscono i dati del sistema (organizzazione, profili-ruoli, risor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omparabil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fruizione di strumenti uniformi di raccolta dat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gr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informazioni correlabili le une alle altre per l’utilizzo sinergico dei dati (strumenti informatici adeguat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lessibil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possibilità di interrogazioni avanzate, ad esempio multivariate, in grado di correlare unità informative multipl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empestiv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aggiornamento costante mediante pianificazione (coincidenza dei tempi e replicazione degli aggiornament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82720" y="2300400"/>
            <a:ext cx="5761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llegamento con altri sistemi informativ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3019320"/>
            <a:ext cx="655308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ontrollo di gest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priorità, obiettivi, indicatori di pres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bilancio/contabilità analitic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monitoraggio dei costi interni ed ester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estione degli acquis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ciclo dell’ordine, approvvigionamenti, albo fornit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4000" y="1341360"/>
          <a:ext cx="8496000" cy="5157360"/>
        </p:xfrm>
        <a:graphic>
          <a:graphicData uri="http://schemas.openxmlformats.org/drawingml/2006/table">
            <a:tbl>
              <a:tblPr/>
              <a:tblGrid>
                <a:gridCol w="1868400"/>
                <a:gridCol w="662760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mb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ee informativ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tema organizzativo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lo organizzativo dell’ente: struttura, meccanismi operativi, strateg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.O. per livello e tipo: obiettivi, progetti, programmi, strutture gerarchiche, risorse, P.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tema delle risorse uma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graf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urriculum: formazione ed esperienz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ia dell’individuo: mobilità, carriera, formazione, valutazione delle prestazioni individual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tema professi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fili professionali: requisiti di acces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filo atteso: inventario delle competenz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iettivi – risultati attesi connessi al profilo – famiglia professi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orsi di carrie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 indent="-95400"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alutazione delle prestazioni e delle prestazio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2174760"/>
            <a:ext cx="669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l sistema informativo per il governo della formazion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2822400"/>
            <a:ext cx="698508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upporto alla redazione del P.F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terrogazioni: per variabili chiave del S.I. gestione delle risorse umane e degli altri S.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2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erifica di coerenza tra obiettivi strategici, gestionali e 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3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input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rivanti dal precedente P.F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4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i ipotesi di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make or bu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5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mulazione di impatto economico-finanzi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.6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erifica dei vincoli di servizio minimo e capacità produt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Sistemi informativi della formazione e della gestione delle risorse um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2155680"/>
            <a:ext cx="669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l sistema informativo per il governo della formazion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3089160"/>
            <a:ext cx="6553080" cy="19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upporto alla gestione del P.F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onitoraggio dei tempi, costi e livelli di attivi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i gra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onitoraggio dei livelli di appre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2.4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ianificazione delle azioni di valutazion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ex p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4920" y="13032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mbi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2946240"/>
            <a:ext cx="3816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in itinere, ex p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stemi in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.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2190600"/>
            <a:ext cx="7993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Output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rapporti di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schede di analisi di cas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Outcom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contestualizzazione dei metodi e degli strumenti d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programmazione, monitoraggio e valutazione dell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formazione </a:t>
            </a:r>
            <a:r>
              <a:rPr b="0" lang="it-IT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Guida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4920" y="10875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 atte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.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.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74920" y="1197000"/>
            <a:ext cx="316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resupp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11280" y="2281320"/>
          <a:ext cx="7848360" cy="3019320"/>
        </p:xfrm>
        <a:graphic>
          <a:graphicData uri="http://schemas.openxmlformats.org/drawingml/2006/table">
            <a:tbl>
              <a:tblPr/>
              <a:tblGrid>
                <a:gridCol w="2520720"/>
                <a:gridCol w="5327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am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i lavoro: Amministrazione e Consorzio Mipa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gittimazione del vertice dell’Amministr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divisione delle informazioni sulle azioni formati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.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74920" y="1197000"/>
            <a:ext cx="316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ccord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9640" y="2220840"/>
          <a:ext cx="8064360" cy="3944880"/>
        </p:xfrm>
        <a:graphic>
          <a:graphicData uri="http://schemas.openxmlformats.org/drawingml/2006/table">
            <a:tbl>
              <a:tblPr/>
              <a:tblGrid>
                <a:gridCol w="2089080"/>
                <a:gridCol w="5975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mministrazione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mbi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ità di osserv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todologia – stru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am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i lavo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ssimi incontri di Laboratorio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2720" y="3473280"/>
            <a:ext cx="7920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RUPPO II° LIVELLO: dirig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iovedì 23 settembre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ell’andamento della speriment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divisione della bozza di Gui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iovedì 18 novembre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divisione dei risultati di sperimentazione: schede di caso e rapporti di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taratura definitiva del modello di valutazione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579680"/>
            <a:ext cx="7920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RUPPO I° LIVELLO: dirett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Venerdì 22 ottobre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esentazione dei risultati della speriment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divisione della bozza di Gui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21148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1 variabili del mod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2 matrice “tipologia di valutazione - destinatari della formazione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3 matrice “tipologia di valutazione - finalità della formazione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4 valutazione di impatto, finalizzazione degli 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22264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sistema informativo, definizione e caratteristi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2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ambiti del sistema informativo integra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3 potenzialità e funzionalità del sistema informativo per la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governanc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 della form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389320"/>
            <a:ext cx="860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28840" indent="-4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1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verifica dei presupposti per la partecipazione al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28840" indent="-4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28840" indent="-4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2 accord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su ambiti, strumenti, obiettivi della speriment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28840" indent="-4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team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 lavo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13000"/>
            <a:ext cx="7848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assu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iornata di Laboratorio del 17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pprofondiment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gettazione delle metodologie di valutazione della formazione: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°p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Sistemi in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Piano di speriment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69228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 di ogg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iornata di Laboratorio del 17 giugno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701720"/>
            <a:ext cx="7920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177840">
              <a:spcBef>
                <a:spcPts val="7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058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1844640"/>
            <a:ext cx="727416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pproccio alla valut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formazione: analisi per variabili chiave, contesto di intervento, opportunità di applic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esentazione degli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trumenti di valut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formazione ed esemplificazioni: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focus group,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estionari, interviste diret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as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tratti dall’indagine di ricognizione: Ministero per i Beni e le attività culturali, Ministero per le Attività produttive, Agenzia delle Entrate, Agenzia delle Dog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periment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esplicitazione delle premesse e del percorso di lavoro comu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a risolvere: tutte le Amministrazioni vogliono accedere alla sperimentazione (opportunità di finalizzazion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01992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579600"/>
            <a:ext cx="8280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70000"/>
              </a:lnSpc>
              <a:spcBef>
                <a:spcPts val="1576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ariabili del modello: approccio alla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920960"/>
            <a:ext cx="7561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variabili prese in considerazione per lo sviluppo del modell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stinatar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pologie di valu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ggetto di valutazione (impatt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’impiego di queste variabili consente di intercettare gli strumenti di valutazione della for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66068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109960"/>
            <a:ext cx="426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1752480"/>
          <a:ext cx="7521840" cy="4191120"/>
        </p:xfrm>
        <a:graphic>
          <a:graphicData uri="http://schemas.openxmlformats.org/drawingml/2006/table">
            <a:tbl>
              <a:tblPr/>
              <a:tblGrid>
                <a:gridCol w="2281320"/>
                <a:gridCol w="5240520"/>
              </a:tblGrid>
              <a:tr h="38124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1627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nalit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cri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ser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tegrare i neo assunti nel nuovo ambiente e nel ruolo loro assegnato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ggiornamento e </a:t>
                      </a:r>
                      <a:r>
                        <a:rPr b="1" i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ki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rasferire specifiche conoscenze di carattere tecnico o normativo, strettamente legate all’operatività del ruol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profess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mpliare e arricchire le conoscenze e le capacità relative ad una specifica area professional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0" rIns="10800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manageri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08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are le competenze di carattere gestionale; si caratterizza per il contenuto tendenzialmente trasversale ai settori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762120" y="620640"/>
            <a:ext cx="75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V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riabili del modello: finalit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9:46:00Z</dcterms:created>
  <dc:creator>torda</dc:creator>
  <dc:description/>
  <dc:language>en-US</dc:language>
  <cp:lastModifiedBy>APOLIDE</cp:lastModifiedBy>
  <dcterms:modified xsi:type="dcterms:W3CDTF">2004-07-05T09:22:15Z</dcterms:modified>
  <cp:revision>530</cp:revision>
  <dc:subject/>
  <dc:title> Una opportunità per vivere la sfida dell’innovazione nella P.A.</dc:title>
</cp:coreProperties>
</file>