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384444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2880" y="4681080"/>
            <a:ext cx="4978440" cy="4435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-360" y="936144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3844440" y="936144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5F4EBCA-A51E-4B4A-B1E5-05A3C8286C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681080"/>
            <a:ext cx="4978440" cy="4435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ttenzione del responsabile della formazione: pragmatismo, attenzione ai vincoli, alle risorse sc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l team di progetto: orientamento a concepire sistemi completi e approfondi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2880" y="4681080"/>
            <a:ext cx="4978440" cy="4435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senso dell’apertura alle diverse ammin: il manuale è trasferibil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avorire qualche passo avanti rispetto alla situazione preced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2880" y="4681080"/>
            <a:ext cx="4978440" cy="4435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senso dell’apertura alle diverse ammin: il manuale è trasferibi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2880" y="4681080"/>
            <a:ext cx="4978440" cy="4435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2880" y="4681080"/>
            <a:ext cx="4978440" cy="4435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n lin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 due applicazioni: interna ed este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C453-F1DA-4AA9-91C4-8673DC2D02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0BC8-1136-42F2-9DB6-C40DB26D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B7F1-C166-41E0-AEA6-9B111358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27B2-9474-4A65-A325-60FF46F198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707C4-EB22-425C-A503-5DE0D4F2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7B2CB-E4E6-4B2F-99E3-4F290F2E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2DE54-D9D1-4564-A11D-6DA375AF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F0377-1AE3-4D5F-B5C0-5C578D0C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8DF6F-BB0B-4301-91C6-3A519297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850FA-2539-456F-B20C-90C69DA4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5CF1B-24BC-4BDC-A4CA-32449F9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8FAE-4E5E-4F9D-A708-701CFCAE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54E2D-26B1-4192-9039-2F5F9F51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2AAF1-85FC-43CF-8024-167131E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39820-58DF-4DB9-984C-8A71BB1B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5D963-C2A9-494B-9442-29AEDB3C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F81B0-B3A6-40CF-9D15-DF0A1ED4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D1DC-47DA-4B98-BB3A-A6936E5B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914F-4FA3-43D9-85F0-AB00DD18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115F-0278-4398-962D-FF266195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512C-8B66-434F-8D7D-1B96AE69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9F2F-2477-4703-859C-AE8C6026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DC15-B3D1-4591-8EAE-C23E7021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FA4D-A589-4D32-B635-2328CBF2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51468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431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1" marL="536400" indent="-28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2" marL="955800" indent="-228600">
              <a:spcBef>
                <a:spcPts val="601"/>
              </a:spcBef>
              <a:buClr>
                <a:srgbClr val="c9431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3" marL="1374840" indent="-228600">
              <a:spcBef>
                <a:spcPts val="601"/>
              </a:spcBef>
              <a:buClr>
                <a:srgbClr val="c94313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4" marL="1771560" indent="-206280">
              <a:spcBef>
                <a:spcPts val="601"/>
              </a:spcBef>
              <a:buClr>
                <a:srgbClr val="c9431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5" marL="1771560" indent="-206280">
              <a:spcBef>
                <a:spcPts val="60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6" marL="1771560" indent="-206280">
              <a:spcBef>
                <a:spcPts val="60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145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439320"/>
            <a:ext cx="5335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600" spc="-1" strike="noStrike">
                <a:solidFill>
                  <a:srgbClr val="ba3e1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60E4-A974-40E6-A812-C397FDBD9B79}" type="slidenum">
              <a:rPr b="1" lang="it-IT" sz="1600" spc="-1" strike="noStrike">
                <a:solidFill>
                  <a:srgbClr val="ba3e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545160"/>
            <a:ext cx="76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ba3e12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ba3e12"/>
                </a:solidFill>
                <a:latin typeface="Times New Roman"/>
              </a:rPr>
              <a:t>Laboratorio sui modelli e le metodologie per programmare e valutare la form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456840" y="6368040"/>
            <a:ext cx="676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CEDF-8438-4001-A2EA-9000A9C69F4A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936720" y="211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0052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086600" y="380880"/>
            <a:ext cx="1257480" cy="911520"/>
            <a:chOff x="7086600" y="380880"/>
            <a:chExt cx="1257480" cy="91152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7374960" y="380880"/>
              <a:ext cx="66924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7086600" y="1071360"/>
              <a:ext cx="1257480" cy="2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38815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3" name="logo%5B1%5D" descr=""/>
          <p:cNvPicPr/>
          <p:nvPr/>
        </p:nvPicPr>
        <p:blipFill>
          <a:blip r:embed="rId5"/>
          <a:stretch/>
        </p:blipFill>
        <p:spPr>
          <a:xfrm>
            <a:off x="3886200" y="304920"/>
            <a:ext cx="1828800" cy="1135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243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" name="logo LeA e pay off1" descr=""/>
          <p:cNvPicPr/>
          <p:nvPr/>
        </p:nvPicPr>
        <p:blipFill>
          <a:blip r:embed="rId6"/>
          <a:stretch/>
        </p:blipFill>
        <p:spPr>
          <a:xfrm>
            <a:off x="380880" y="609480"/>
            <a:ext cx="2971800" cy="579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27200" algn="ctr">
              <a:spcBef>
                <a:spcPts val="499"/>
              </a:spcBef>
              <a:buClr>
                <a:srgbClr val="c94313"/>
              </a:buClr>
              <a:buSzPct val="7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3e1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c94313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3e1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lvl="4" marL="1565280" algn="ctr">
              <a:spcBef>
                <a:spcPts val="451"/>
              </a:spcBef>
              <a:buClr>
                <a:srgbClr val="c94313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3e1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lvl="5" marL="1565280">
              <a:spcBef>
                <a:spcPts val="45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3e1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lvl="6" marL="1565280">
              <a:spcBef>
                <a:spcPts val="45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3e1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ba3e12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03396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ba3e12"/>
                </a:solidFill>
                <a:latin typeface="Arial"/>
              </a:rPr>
              <a:t>Roma, 29 marzo 2004</a:t>
            </a:r>
            <a:r>
              <a:rPr b="1" lang="it-IT" sz="2000" spc="-1" strike="noStrike">
                <a:solidFill>
                  <a:srgbClr val="ba3e1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257800"/>
            <a:ext cx="7467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a3e12"/>
                </a:solidFill>
                <a:latin typeface="Arial"/>
              </a:rPr>
              <a:t>Laboratorio sui modelli e le metodologie </a:t>
            </a:r>
            <a:br>
              <a:rPr sz="2000"/>
            </a:br>
            <a:r>
              <a:rPr b="1" lang="it-IT" sz="2000" spc="-1" strike="noStrike">
                <a:solidFill>
                  <a:srgbClr val="ba3e12"/>
                </a:solidFill>
                <a:latin typeface="Arial"/>
              </a:rPr>
              <a:t>per programmare e valutare la formazione</a:t>
            </a:r>
            <a:br>
              <a:rPr sz="18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ba3e12"/>
                </a:solidFill>
                <a:latin typeface="Arial"/>
              </a:rPr>
              <a:t>Obiettivi del Laboratorio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ba3e12"/>
                </a:solidFill>
                <a:latin typeface="Arial"/>
              </a:rPr>
              <a:t>percorso di lavor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ba3e12"/>
                </a:solidFill>
                <a:latin typeface="Arial"/>
              </a:rPr>
              <a:t>e ruolo delle amministrazioni </a:t>
            </a:r>
            <a:r>
              <a:rPr b="1" lang="it-IT" sz="2600" spc="-1" strike="noStrike">
                <a:solidFill>
                  <a:srgbClr val="ba3e12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2971800"/>
            <a:ext cx="7239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76520" y="1397160"/>
          <a:ext cx="6095880" cy="44449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G e direttori risorse uma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 proget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flettono e si confrontano sul proprio approccio al governo  della form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curano la partecipazione attiva degli enti al Laboratori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ne una lettura delle criticità e delle opportunità sul tema del governo della formazione…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vedendola alla luce del confronto con il vertice degli en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533520" y="304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Ruolo degli enti e del </a:t>
            </a:r>
            <a:r>
              <a:rPr b="1" i="1" lang="it-IT" sz="2600" spc="-1" strike="noStrike">
                <a:solidFill>
                  <a:srgbClr val="8c2100"/>
                </a:solidFill>
                <a:latin typeface="Arial"/>
              </a:rPr>
              <a:t>team</a:t>
            </a: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 di progetto </a:t>
            </a:r>
            <a:br>
              <a:rPr sz="2600"/>
            </a:br>
            <a:r>
              <a:rPr b="0" i="1" lang="it-IT" sz="2400" spc="-1" strike="noStrike">
                <a:solidFill>
                  <a:srgbClr val="8c2100"/>
                </a:solidFill>
                <a:latin typeface="Arial"/>
              </a:rPr>
              <a:t>Gruppi di primo livel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CA47-D3F5-41CD-9917-EBE0D23872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2971800"/>
            <a:ext cx="7239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1397160"/>
          <a:ext cx="6096240" cy="37749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 della form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 proget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tono a disposizione del gruppo di esperienze, metodologie, strumen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onducono le proposte alle applicazioni concrete (fattibilità, coerenza con il contesto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ziona le esperienze e ne dà una lettura d’insieme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ne modelli, metodologie e strumenti, a partire dalle esperienz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304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Ruolo degli enti e del </a:t>
            </a:r>
            <a:r>
              <a:rPr b="1" i="1" lang="it-IT" sz="2600" spc="-1" strike="noStrike">
                <a:solidFill>
                  <a:srgbClr val="8c2100"/>
                </a:solidFill>
                <a:latin typeface="Arial"/>
              </a:rPr>
              <a:t>team</a:t>
            </a: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 di progetto </a:t>
            </a:r>
            <a:br>
              <a:rPr sz="2600"/>
            </a:br>
            <a:r>
              <a:rPr b="0" i="1" lang="it-IT" sz="2400" spc="-1" strike="noStrike">
                <a:solidFill>
                  <a:srgbClr val="8c2100"/>
                </a:solidFill>
                <a:latin typeface="Arial"/>
              </a:rPr>
              <a:t>Gruppi di secondo livel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567A-EADA-4A27-8248-ABDE66E193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2971800"/>
            <a:ext cx="7239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3880" y="1627200"/>
          <a:ext cx="6096240" cy="2776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ministrazion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 proget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zano la speriment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ianca le amministrazioni nella speriment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 e rivede metodologie e strumen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33520" y="304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Ruolo degli enti e del </a:t>
            </a:r>
            <a:r>
              <a:rPr b="1" i="1" lang="it-IT" sz="2600" spc="-1" strike="noStrike">
                <a:solidFill>
                  <a:srgbClr val="8c2100"/>
                </a:solidFill>
                <a:latin typeface="Arial"/>
              </a:rPr>
              <a:t>team</a:t>
            </a: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 di progetto </a:t>
            </a:r>
            <a:br>
              <a:rPr sz="2600"/>
            </a:br>
            <a:r>
              <a:rPr b="0" i="1" lang="it-IT" sz="2400" spc="-1" strike="noStrike">
                <a:solidFill>
                  <a:srgbClr val="8c2100"/>
                </a:solidFill>
                <a:latin typeface="Arial"/>
              </a:rPr>
              <a:t>Terzo livello (sperimentazion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3023-049A-4BCD-8B41-AFA598B3D9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2438"/>
              </a:spcBef>
              <a:buClr>
                <a:srgbClr val="8c21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l Laboratorio: un quadro d’insieme</a:t>
            </a:r>
            <a:endParaRPr b="0" lang="en-US" sz="2600" spc="-1" strike="noStrike">
              <a:solidFill>
                <a:srgbClr val="ba3e12"/>
              </a:solidFill>
              <a:latin typeface="Arial"/>
            </a:endParaRPr>
          </a:p>
          <a:p>
            <a:pPr marL="289080" indent="-289080">
              <a:spcBef>
                <a:spcPts val="2438"/>
              </a:spcBef>
              <a:buClr>
                <a:srgbClr val="8c21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l prodotto del Laboratorio</a:t>
            </a:r>
            <a:endParaRPr b="0" lang="en-US" sz="2600" spc="-1" strike="noStrike">
              <a:solidFill>
                <a:srgbClr val="ba3e12"/>
              </a:solidFill>
              <a:latin typeface="Arial"/>
            </a:endParaRPr>
          </a:p>
          <a:p>
            <a:pPr marL="289080" indent="-289080">
              <a:spcBef>
                <a:spcPts val="2438"/>
              </a:spcBef>
              <a:buClr>
                <a:srgbClr val="8c21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l percorso di lavoro</a:t>
            </a:r>
            <a:endParaRPr b="0" lang="en-US" sz="2600" spc="-1" strike="noStrike">
              <a:solidFill>
                <a:srgbClr val="ba3e12"/>
              </a:solidFill>
              <a:latin typeface="Arial"/>
            </a:endParaRPr>
          </a:p>
          <a:p>
            <a:pPr marL="289080" indent="-289080">
              <a:spcBef>
                <a:spcPts val="2438"/>
              </a:spcBef>
              <a:buClr>
                <a:srgbClr val="8c21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l ruolo degli enti e del </a:t>
            </a: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 progetto</a:t>
            </a:r>
            <a:endParaRPr b="0" lang="en-US" sz="2600" spc="-1" strike="noStrike">
              <a:solidFill>
                <a:srgbClr val="ba3e12"/>
              </a:solidFill>
              <a:latin typeface="Arial"/>
            </a:endParaRPr>
          </a:p>
          <a:p>
            <a:pPr marL="289080" indent="0"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971800"/>
            <a:ext cx="7239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522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19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Scalett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3741-A6FF-4683-950B-A7AB37EF53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2971800"/>
            <a:ext cx="7239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838080"/>
            <a:ext cx="82296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L’obiettivo</a:t>
            </a:r>
            <a:r>
              <a:rPr b="0" lang="it-IT" sz="2200" spc="-1" strike="noStrike">
                <a:solidFill>
                  <a:srgbClr val="ba3e12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ttere a disposizione degli enti un insieme di modelli e metodologie per programmare e valutare la formazion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438280"/>
            <a:ext cx="82296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Il coinvolgimento delle amministrazion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G e direttori risorse uma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dividono principi e criteri guida per gestire la formazion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abili della formaz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ibuiscono a definire i modelli e le metodologi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04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Il Laboratorio: un quadro di insieme </a:t>
            </a:r>
            <a:br>
              <a:rPr sz="2600"/>
            </a:br>
            <a:r>
              <a:rPr b="0" i="1" lang="it-IT" sz="2400" spc="-1" strike="noStrike">
                <a:solidFill>
                  <a:srgbClr val="8c21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042B-A708-48B2-91F3-3588FFB15E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2971800"/>
            <a:ext cx="7239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143000"/>
            <a:ext cx="822960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La filosofia dell’intervent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n limitarsi a far circolare esperienz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n portare soluzioni estranee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 favorire dei passi avanti a partire dalle prassi esisten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114800"/>
            <a:ext cx="8229600" cy="938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Il prodotto</a:t>
            </a:r>
            <a:r>
              <a:rPr b="0" lang="it-IT" sz="2200" spc="-1" strike="noStrike">
                <a:solidFill>
                  <a:srgbClr val="ba3e12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l manuale per la programmazione e la valutazione formativ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04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Il Laboratorio: un quadro di insieme </a:t>
            </a:r>
            <a:br>
              <a:rPr sz="2600"/>
            </a:br>
            <a:r>
              <a:rPr b="0" i="1" lang="it-IT" sz="2400" spc="-1" strike="noStrike">
                <a:solidFill>
                  <a:srgbClr val="8c21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6A4D-66C3-4E1E-BE87-14DE803119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2971800"/>
            <a:ext cx="7239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752480"/>
            <a:ext cx="793116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cesso di analisi e predisposizione del Pian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truttura ed articolazione del Pian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grammazione operativ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960" y="1359000"/>
            <a:ext cx="2835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0000"/>
                </a:solidFill>
                <a:latin typeface="Arial"/>
              </a:rPr>
              <a:t>Piano di formazion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1200" y="3276720"/>
            <a:ext cx="3781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0000"/>
                </a:solidFill>
                <a:latin typeface="Arial"/>
              </a:rPr>
              <a:t>Monitoraggio e valutazion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691080"/>
            <a:ext cx="754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trumenti di monitoraggio per il controllo di process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Valutazione ex-post oltre il gradimento e l’apprendiment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4880" y="4788000"/>
            <a:ext cx="2850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0000"/>
                </a:solidFill>
                <a:latin typeface="Arial"/>
              </a:rPr>
              <a:t>Sistema informativ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162400"/>
            <a:ext cx="77724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unzionalità a supporto della gestione efficace della formazion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04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Il prodotto del Laboratorio </a:t>
            </a:r>
            <a:br>
              <a:rPr sz="2600"/>
            </a:br>
            <a:r>
              <a:rPr b="0" i="1" lang="it-IT" sz="2400" spc="-1" strike="noStrike">
                <a:solidFill>
                  <a:srgbClr val="8c2100"/>
                </a:solidFill>
                <a:latin typeface="Arial"/>
              </a:rPr>
              <a:t>I temi trattati nel Laboratorio e nel manu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626F-AA17-4524-84F4-3AF6228D00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2971800"/>
            <a:ext cx="7239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333440"/>
            <a:ext cx="822960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i e criteri guida per gestire la formazio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azione e valutazione formativ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modelli “a tendere”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metodologie e strumen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inee guida dei percorsi di sviluppo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04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Il prodotto del Laboratorio </a:t>
            </a:r>
            <a:br>
              <a:rPr sz="2600"/>
            </a:br>
            <a:r>
              <a:rPr b="0" i="1" lang="it-IT" sz="2400" spc="-1" strike="noStrike">
                <a:solidFill>
                  <a:srgbClr val="8c2100"/>
                </a:solidFill>
                <a:latin typeface="Arial"/>
              </a:rPr>
              <a:t>I contenuti del manu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D40D-5F4B-4291-890B-71C93A3FFF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2971800"/>
            <a:ext cx="7239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41360"/>
            <a:ext cx="8229600" cy="30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no strumento per far riflettere gli enti sulla propria situazione e sulle proprie prospettive di svilupp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na guida contenente metodologie e strumenti pensati per i contesti tipici delle amministrazioni, e per supportare nel proprio lavoro dirigenti e funzionari della formazion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na base di partenza per concepire un manuale personalizzato per l’ent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04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Il prodotto del Laboratorio </a:t>
            </a:r>
            <a:br>
              <a:rPr sz="2600"/>
            </a:br>
            <a:r>
              <a:rPr b="0" i="1" lang="it-IT" sz="2400" spc="-1" strike="noStrike">
                <a:solidFill>
                  <a:srgbClr val="8c2100"/>
                </a:solidFill>
                <a:latin typeface="Arial"/>
              </a:rPr>
              <a:t>Cosa è il manu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E4F7-8DEA-4996-89D2-3FEF71A7EE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22860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Il percorso di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lavoro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2280" y="762120"/>
            <a:ext cx="8686440" cy="5714640"/>
            <a:chOff x="152280" y="762120"/>
            <a:chExt cx="8686440" cy="5714640"/>
          </a:xfrm>
        </p:grpSpPr>
        <p:sp>
          <p:nvSpPr>
            <p:cNvPr id="131" name=""/>
            <p:cNvSpPr/>
            <p:nvPr/>
          </p:nvSpPr>
          <p:spPr>
            <a:xfrm>
              <a:off x="5942880" y="762120"/>
              <a:ext cx="28958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8c2100"/>
                  </a:solidFill>
                  <a:latin typeface="Arial"/>
                </a:rPr>
                <a:t>ottobre - dicembr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7400" y="762120"/>
              <a:ext cx="28951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8c2100"/>
                  </a:solidFill>
                  <a:latin typeface="Arial"/>
                </a:rPr>
                <a:t>luglio - settembr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280" y="762120"/>
              <a:ext cx="28951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8c2100"/>
                  </a:solidFill>
                  <a:latin typeface="Arial"/>
                </a:rPr>
                <a:t>aprile - giugn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7400" y="762120"/>
              <a:ext cx="0" cy="5714640"/>
            </a:xfrm>
            <a:prstGeom prst="line">
              <a:avLst/>
            </a:prstGeom>
            <a:ln w="12600">
              <a:solidFill>
                <a:srgbClr val="ff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42880" y="762120"/>
              <a:ext cx="0" cy="5714640"/>
            </a:xfrm>
            <a:prstGeom prst="line">
              <a:avLst/>
            </a:prstGeom>
            <a:ln w="12600">
              <a:solidFill>
                <a:srgbClr val="ff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63520" y="1360440"/>
            <a:ext cx="2338560" cy="4834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Progettazione modelli metodologie e strum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1371600"/>
            <a:ext cx="3786120" cy="4834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Sperimentazione sul camp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11760" y="1359000"/>
            <a:ext cx="2116440" cy="483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Taratura e diffus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733920"/>
            <a:ext cx="7238880" cy="1386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3 GRUPPI DI 2° LIVELLO – Dirigenti e funzionari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Realizzazione del manu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5257800"/>
            <a:ext cx="5791320" cy="67896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Circa 10 Amministrazion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per la sperim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9560" y="2717640"/>
            <a:ext cx="7796160" cy="114264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3 GRUPPI DI 1° LIVELLO – DG e direttori risorse uma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Condivisione principi e indirizzo alle attivit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32040" y="3433680"/>
            <a:ext cx="5392440" cy="147600"/>
            <a:chOff x="932040" y="3433680"/>
            <a:chExt cx="5392440" cy="147600"/>
          </a:xfrm>
        </p:grpSpPr>
        <p:sp>
          <p:nvSpPr>
            <p:cNvPr id="143" name=""/>
            <p:cNvSpPr/>
            <p:nvPr/>
          </p:nvSpPr>
          <p:spPr>
            <a:xfrm>
              <a:off x="932040" y="3433680"/>
              <a:ext cx="156960" cy="147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67520" y="3433680"/>
              <a:ext cx="156960" cy="147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01760" y="4803840"/>
            <a:ext cx="5726160" cy="149040"/>
            <a:chOff x="1301760" y="4803840"/>
            <a:chExt cx="5726160" cy="149040"/>
          </a:xfrm>
        </p:grpSpPr>
        <p:sp>
          <p:nvSpPr>
            <p:cNvPr id="146" name=""/>
            <p:cNvSpPr/>
            <p:nvPr/>
          </p:nvSpPr>
          <p:spPr>
            <a:xfrm>
              <a:off x="1301760" y="4803840"/>
              <a:ext cx="156960" cy="1490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58680" y="4803840"/>
              <a:ext cx="157320" cy="1490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15960" y="4803840"/>
              <a:ext cx="157320" cy="1490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76640" y="4803840"/>
              <a:ext cx="157320" cy="1490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0600" y="4803840"/>
              <a:ext cx="157320" cy="1490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963200" y="2666880"/>
            <a:ext cx="643680" cy="3353040"/>
          </a:xfrm>
          <a:prstGeom prst="rect">
            <a:avLst/>
          </a:prstGeom>
          <a:solidFill>
            <a:srgbClr val="ff99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a3e12"/>
                </a:solidFill>
                <a:latin typeface="Arial"/>
              </a:rPr>
              <a:t>Conveg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a3e12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ba3e12"/>
                </a:solidFill>
                <a:latin typeface="Arial"/>
              </a:rPr>
              <a:t>fin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3C67-0EBB-41BF-86AB-02038966F8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143000"/>
            <a:ext cx="79311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800000"/>
                </a:solidFill>
                <a:latin typeface="Arial"/>
              </a:rPr>
              <a:t>Impegn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artecipare ai gruppi in modo regolare e attiv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ssicurare condizioni per la fattibilità e il buon esito della sperimentazion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276720"/>
            <a:ext cx="181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352680"/>
            <a:ext cx="75438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800000"/>
                </a:solidFill>
                <a:latin typeface="Arial"/>
              </a:rPr>
              <a:t>Opportunità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ermarsi a riflettere sulla possibilità di cambiare (strategie di gestione della formazione, metodologie, …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are rete tra amministrazion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perimentare per primi strumenti innovativ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04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8c2100"/>
                </a:solidFill>
                <a:latin typeface="Arial"/>
              </a:rPr>
              <a:t>Il percorso di lavoro </a:t>
            </a:r>
            <a:br>
              <a:rPr sz="2600"/>
            </a:br>
            <a:r>
              <a:rPr b="0" i="1" lang="it-IT" sz="2400" spc="-1" strike="noStrike">
                <a:solidFill>
                  <a:srgbClr val="8c2100"/>
                </a:solidFill>
                <a:latin typeface="Arial"/>
              </a:rPr>
              <a:t>Gli impegni e le opportunità per le amministrazion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60D8-A41C-4C7B-93F5-FC41213160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09:46:00Z</dcterms:created>
  <dc:creator>torda</dc:creator>
  <dc:description/>
  <dc:language>en-US</dc:language>
  <cp:lastModifiedBy>APOLIDE</cp:lastModifiedBy>
  <dcterms:modified xsi:type="dcterms:W3CDTF">2004-07-05T11:50:04Z</dcterms:modified>
  <cp:revision>374</cp:revision>
  <dc:subject/>
  <dc:title> Una opportunità per vivere la sfida dell’innovazione nella P.A.</dc:title>
</cp:coreProperties>
</file>