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3443-79E7-4211-AD4C-C54C369085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E1CF-BC2B-4D89-9FBD-66521D0F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5620-3373-472C-A6C3-5B8E27FF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564C-4EC5-4238-BFA5-45140EF2FE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4B415-B2B2-4C00-86FC-C7B1AD16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15802-CA14-41BC-9E66-16F1F423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0A94B-8F92-4B50-9B9A-72B4345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455EF-60EE-4482-800A-FB141944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6307D-0B98-4665-8560-6678789A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120C8-20BE-4F0D-9C76-AE030FBF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C83D2-3E99-45E9-A9A3-9136ADCD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E8AB-C9AC-4E0A-8D74-77795CD4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9D4DC-DF58-49B9-A35D-7723A49A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CEEE4-CFED-40B8-8C60-C5B822AB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D60B1-5FE7-4F31-AF40-A9183916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6AC05-8B89-4643-B122-BE984478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972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93640" y="121932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972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93640" y="3766680"/>
            <a:ext cx="2527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2CE8A-0645-4B63-A1C1-E7EBF43F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D593-EE21-492E-A7B3-6C4A5805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194A-F3B2-4D5B-AE15-164BC423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E102-8970-4851-80D8-402FFFCA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543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66D2-4DE8-4E4F-87C5-924AB2FB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7D38-6A9C-4A2D-8BC4-EC18007C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7720" y="376668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450E-5B9C-4411-9881-547A4131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7720" y="1219320"/>
            <a:ext cx="38300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8487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88C5B-1748-45D5-A6F4-5BE30F3C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21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51468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9431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1" marL="536400" indent="-28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2" marL="955800" indent="-228600">
              <a:spcBef>
                <a:spcPts val="601"/>
              </a:spcBef>
              <a:buClr>
                <a:srgbClr val="c9431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3" marL="1374840" indent="-228600">
              <a:spcBef>
                <a:spcPts val="601"/>
              </a:spcBef>
              <a:buClr>
                <a:srgbClr val="c94313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4" marL="1771560" indent="-206280">
              <a:spcBef>
                <a:spcPts val="601"/>
              </a:spcBef>
              <a:buClr>
                <a:srgbClr val="c94313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5" marL="1771560" indent="-206280">
              <a:spcBef>
                <a:spcPts val="60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6" marL="1771560" indent="-206280">
              <a:spcBef>
                <a:spcPts val="60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3e1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145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10480" y="6439320"/>
            <a:ext cx="5335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600" spc="-1" strike="noStrike">
                <a:solidFill>
                  <a:srgbClr val="ba3e1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EFF0-CE7C-44A7-BE90-98985BB982F3}" type="slidenum">
              <a:rPr b="1" lang="it-IT" sz="1600" spc="-1" strike="noStrike">
                <a:solidFill>
                  <a:srgbClr val="ba3e1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545160"/>
            <a:ext cx="761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ba3e12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ba3e12"/>
                </a:solidFill>
                <a:latin typeface="Times New Roman"/>
              </a:rPr>
              <a:t>Laboratorio Formazione - Dipartimento della Funzione Pubblic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456840" y="6368040"/>
            <a:ext cx="67644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944C-3672-4F50-891B-0EEADB979EF1}" type="slidenum">
              <a:rPr b="1" lang="it-IT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936720" y="2111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21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0052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9528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391520" y="304920"/>
            <a:ext cx="1447560" cy="1218600"/>
            <a:chOff x="7391520" y="304920"/>
            <a:chExt cx="1447560" cy="121860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7723440" y="304920"/>
              <a:ext cx="770760" cy="90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7391520" y="1227960"/>
              <a:ext cx="1447560" cy="29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38815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432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" name="logo LeA e pay off1" descr=""/>
          <p:cNvPicPr/>
          <p:nvPr/>
        </p:nvPicPr>
        <p:blipFill>
          <a:blip r:embed="rId5"/>
          <a:stretch/>
        </p:blipFill>
        <p:spPr>
          <a:xfrm>
            <a:off x="228600" y="519120"/>
            <a:ext cx="3429000" cy="669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480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" name="logo%5B1%5D" descr=""/>
          <p:cNvPicPr/>
          <p:nvPr/>
        </p:nvPicPr>
        <p:blipFill>
          <a:blip r:embed="rId6"/>
          <a:stretch/>
        </p:blipFill>
        <p:spPr>
          <a:xfrm>
            <a:off x="4343400" y="152280"/>
            <a:ext cx="1752480" cy="1073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727200" algn="ctr">
              <a:spcBef>
                <a:spcPts val="499"/>
              </a:spcBef>
              <a:buClr>
                <a:srgbClr val="c94313"/>
              </a:buClr>
              <a:buSzPct val="75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3e1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ba3e12"/>
              </a:solidFill>
              <a:latin typeface="Arial"/>
            </a:endParaRPr>
          </a:p>
          <a:p>
            <a:pPr lvl="3" marL="1146240" algn="ctr">
              <a:spcBef>
                <a:spcPts val="451"/>
              </a:spcBef>
              <a:buClr>
                <a:srgbClr val="c94313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3e1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lvl="4" marL="1565280" algn="ctr">
              <a:spcBef>
                <a:spcPts val="451"/>
              </a:spcBef>
              <a:buClr>
                <a:srgbClr val="c94313"/>
              </a:buClr>
              <a:buSzPct val="6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3e1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lvl="5" marL="1565280">
              <a:spcBef>
                <a:spcPts val="45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3e1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  <a:p>
            <a:pPr lvl="6" marL="1565280">
              <a:spcBef>
                <a:spcPts val="451"/>
              </a:spcBef>
              <a:buClr>
                <a:srgbClr val="0033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a3e1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ba3e1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ba3e12"/>
                </a:solidFill>
                <a:latin typeface="Arial"/>
              </a:rPr>
              <a:t> </a:t>
            </a:r>
            <a:br>
              <a:rPr sz="2800"/>
            </a:br>
            <a:r>
              <a:rPr b="1" lang="it-IT" sz="2400" spc="-1" strike="noStrike">
                <a:solidFill>
                  <a:srgbClr val="003366"/>
                </a:solidFill>
                <a:latin typeface="Arial"/>
              </a:rPr>
              <a:t>Gli orientamenti per il “governo” della formazione</a:t>
            </a:r>
            <a:r>
              <a:rPr b="0" lang="it-IT" sz="2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600"/>
            </a:br>
            <a:br>
              <a:rPr sz="2600"/>
            </a:br>
            <a:r>
              <a:rPr b="0" lang="it-IT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Risultati di sperimentazione e discussione della Guida</a:t>
            </a:r>
            <a:br>
              <a:rPr sz="2000"/>
            </a:b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er la programmazione e la valutazione della formazione</a:t>
            </a:r>
            <a:br>
              <a:rPr sz="2000"/>
            </a:br>
            <a:endParaRPr b="1" lang="en-US" sz="20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410080"/>
            <a:ext cx="594360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Laboratorio sui modelli e le metodologie per programmare e valutare la formazi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Roma, 22 ottobre 2004</a:t>
            </a: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115920"/>
            <a:ext cx="89917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Guida 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Struttura e contenuti</a:t>
            </a:r>
            <a:endParaRPr b="1" lang="en-US" sz="24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143000"/>
            <a:ext cx="79390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90000"/>
              </a:lnSpc>
              <a:spcBef>
                <a:spcPts val="150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549360"/>
            <a:ext cx="7710480" cy="58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1500"/>
              </a:spcBef>
              <a:buClr>
                <a:srgbClr val="0f0501"/>
              </a:buClr>
              <a:buFont typeface="Arial"/>
              <a:buAutoNum type="arabicPeriod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Prima parte</a:t>
            </a: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: il modello di riferim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Il governo della formazione nelle P.A.: esigenze, sistema, variabili e ambito di interven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500"/>
              </a:spcBef>
              <a:buClr>
                <a:srgbClr val="0f0501"/>
              </a:buClr>
              <a:buFont typeface="Arial"/>
              <a:buAutoNum type="arabicPeriod" startAt="2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Seconda parte</a:t>
            </a: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: le metodolo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Piano della formazione, annuale e trienn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Valutazione della formazione: gradimento, apprendimento, applicazione al lavoro, impatto sull’organizz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Terza parte</a:t>
            </a: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: gli strumen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Piano della formazione, annuale e trienn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Valutazione della formazione: gradimento, apprendimento, applicazione al lavoro, impatto sull’organizz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9F37F-35D7-4FC0-A22D-4783F12557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120" y="1130400"/>
            <a:ext cx="807732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22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ato dell’arte del Laboratorio Formazione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marL="290520" indent="-290520">
              <a:spcBef>
                <a:spcPts val="22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gramm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ormativa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marL="290520" indent="-290520">
              <a:spcBef>
                <a:spcPts val="2251"/>
              </a:spcBef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alut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ormativa</a:t>
            </a: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  <a:p>
            <a:pPr lvl="1" marL="536400" indent="-2880">
              <a:spcBef>
                <a:spcPts val="22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dee guida di parte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36400" indent="-2880">
              <a:spcBef>
                <a:spcPts val="22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ultati della speriment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36400" indent="-2880">
              <a:spcBef>
                <a:spcPts val="225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ri contribu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905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a3e1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971800"/>
            <a:ext cx="7239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22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19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it-IT" sz="2600" spc="-1" strike="noStrike">
                <a:solidFill>
                  <a:srgbClr val="003366"/>
                </a:solidFill>
                <a:latin typeface="Arial"/>
              </a:rPr>
              <a:t>Punti di discussion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0363-B2C7-4BB4-916A-9DDF7B5F2E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Laboratorio Formazione </a:t>
            </a:r>
            <a:br>
              <a:rPr sz="2500"/>
            </a:b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Attività e tempi del percorso di progetto</a:t>
            </a:r>
            <a:endParaRPr b="1" lang="en-US" sz="2400" spc="-1" strike="noStrike">
              <a:solidFill>
                <a:srgbClr val="8c21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28600" y="914400"/>
            <a:ext cx="8686440" cy="5714640"/>
            <a:chOff x="228600" y="914400"/>
            <a:chExt cx="8686440" cy="5714640"/>
          </a:xfrm>
        </p:grpSpPr>
        <p:sp>
          <p:nvSpPr>
            <p:cNvPr id="101" name=""/>
            <p:cNvSpPr/>
            <p:nvPr/>
          </p:nvSpPr>
          <p:spPr>
            <a:xfrm>
              <a:off x="6019200" y="914400"/>
              <a:ext cx="28958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66"/>
                  </a:solidFill>
                  <a:latin typeface="Arial"/>
                </a:rPr>
                <a:t>ottobre - dicembr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23720" y="914400"/>
              <a:ext cx="28951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66"/>
                  </a:solidFill>
                  <a:latin typeface="Arial"/>
                </a:rPr>
                <a:t>luglio - settembr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914400"/>
              <a:ext cx="28951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3366"/>
                  </a:solidFill>
                  <a:latin typeface="Arial"/>
                </a:rPr>
                <a:t>aprile - giugn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23720" y="914400"/>
              <a:ext cx="0" cy="5714640"/>
            </a:xfrm>
            <a:prstGeom prst="line">
              <a:avLst/>
            </a:prstGeom>
            <a:ln w="12600">
              <a:solidFill>
                <a:srgbClr val="ff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19200" y="914400"/>
              <a:ext cx="0" cy="5714640"/>
            </a:xfrm>
            <a:prstGeom prst="line">
              <a:avLst/>
            </a:prstGeom>
            <a:ln w="12600">
              <a:solidFill>
                <a:srgbClr val="ff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63520" y="1360440"/>
            <a:ext cx="233856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Progettazione modelli metodologie e strume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1371600"/>
            <a:ext cx="347040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Sperimentazione sul camp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11760" y="1359000"/>
            <a:ext cx="211644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Taratura e diffus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3733920"/>
            <a:ext cx="7238880" cy="1386360"/>
          </a:xfrm>
          <a:prstGeom prst="rect">
            <a:avLst/>
          </a:prstGeom>
          <a:solidFill>
            <a:srgbClr val="ffcc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GRUPPI DI 2° LIVELLO – Dirigenti e funzionari     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Realizzazione della gui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5257800"/>
            <a:ext cx="5791320" cy="678960"/>
          </a:xfrm>
          <a:prstGeom prst="rect">
            <a:avLst/>
          </a:prstGeom>
          <a:solidFill>
            <a:srgbClr val="ffcc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Circa 10 gruppi di amministrazion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per la sperimen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560" y="2717640"/>
            <a:ext cx="7796160" cy="1142640"/>
          </a:xfrm>
          <a:prstGeom prst="rect">
            <a:avLst/>
          </a:prstGeom>
          <a:solidFill>
            <a:srgbClr val="ffcc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GRUPPI DI 1° LIVELLO – DG e direttori risorse uma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Condivisione principi e indirizzo alle attivit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32040" y="3433680"/>
            <a:ext cx="5392440" cy="147600"/>
            <a:chOff x="932040" y="3433680"/>
            <a:chExt cx="5392440" cy="147600"/>
          </a:xfrm>
        </p:grpSpPr>
        <p:sp>
          <p:nvSpPr>
            <p:cNvPr id="113" name=""/>
            <p:cNvSpPr/>
            <p:nvPr/>
          </p:nvSpPr>
          <p:spPr>
            <a:xfrm>
              <a:off x="932040" y="3433680"/>
              <a:ext cx="156960" cy="147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67520" y="3433680"/>
              <a:ext cx="156960" cy="147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301760" y="4803840"/>
            <a:ext cx="5726160" cy="149040"/>
            <a:chOff x="1301760" y="4803840"/>
            <a:chExt cx="5726160" cy="149040"/>
          </a:xfrm>
        </p:grpSpPr>
        <p:sp>
          <p:nvSpPr>
            <p:cNvPr id="116" name=""/>
            <p:cNvSpPr/>
            <p:nvPr/>
          </p:nvSpPr>
          <p:spPr>
            <a:xfrm>
              <a:off x="1301760" y="4803840"/>
              <a:ext cx="156960" cy="1490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58680" y="4803840"/>
              <a:ext cx="157320" cy="1490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15960" y="4803840"/>
              <a:ext cx="157320" cy="1490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76640" y="4803840"/>
              <a:ext cx="157320" cy="1490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70600" y="4803840"/>
              <a:ext cx="157320" cy="1490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963200" y="2666880"/>
            <a:ext cx="643680" cy="3353040"/>
          </a:xfrm>
          <a:prstGeom prst="rect">
            <a:avLst/>
          </a:prstGeom>
          <a:solidFill>
            <a:srgbClr val="ff99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a3e12"/>
                </a:solidFill>
                <a:latin typeface="Arial"/>
              </a:rPr>
              <a:t>Conveg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ba3e12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ba3e12"/>
                </a:solidFill>
                <a:latin typeface="Arial"/>
              </a:rPr>
              <a:t>fin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0C00-E8C4-4A24-8823-6321D8F407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Stato dell’arte del Laboratorio Formazione </a:t>
            </a:r>
            <a:br>
              <a:rPr sz="2500"/>
            </a:b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Ipotesi di partenza: i processi di formazione</a:t>
            </a:r>
            <a:r>
              <a:rPr b="0" i="1" lang="it-IT" sz="2400" spc="-1" strike="noStrike">
                <a:solidFill>
                  <a:srgbClr val="8c21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5756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368360" y="1170000"/>
          <a:ext cx="6407280" cy="51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170000"/>
                    <a:ext cx="640728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25756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C0E3-0C68-42CA-9664-8495F3266E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Programmazione formativa </a:t>
            </a:r>
            <a:br>
              <a:rPr sz="2500"/>
            </a:b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  le idee guida di partenza</a:t>
            </a:r>
            <a:endParaRPr b="1" lang="en-US" sz="24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353960"/>
            <a:ext cx="7939080" cy="35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90000"/>
              </a:lnSpc>
              <a:spcBef>
                <a:spcPts val="150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Integrare la programmazione formativa con le strategie dell’ent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Stretta correlazione del Piano di formazione con il Piano strategico e con gli obiettivi dell’e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Partecipazione attiva del vertice nelle scelte relative al Piano dell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150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Tenere conto delle motivazioni delle persone come condizione di successo della form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0FA4-F7FA-43D1-BCAE-681837F5B9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Progettazione –  Caso Ministero Attività produttive</a:t>
            </a:r>
            <a:br>
              <a:rPr sz="2500"/>
            </a:b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Obiettivo e caratteristiche della sperimentazione</a:t>
            </a:r>
            <a:endParaRPr b="1" lang="en-US" sz="24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143000"/>
            <a:ext cx="79390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90000"/>
              </a:lnSpc>
              <a:spcBef>
                <a:spcPts val="150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143000"/>
            <a:ext cx="7939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Obiettivo della speriment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Definire il fabbisogno formativo del personale di “ispezione e vigilanza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Caratteristiche del ca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Analisi riferita ad una nuova famiglia profession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Ricorso a metodologie di analisi di profilo </a:t>
            </a:r>
            <a:r>
              <a:rPr b="0" lang="it-IT" sz="2000" spc="-1" strike="noStrike">
                <a:solidFill>
                  <a:srgbClr val="0f0501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analisi di fabbisog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Possibilità di nuove attribuzioni all’ufficio formazion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0BE7-FE94-4A12-B124-03BFECEA86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Valutazione –  Caso Ministero Beni culturali</a:t>
            </a:r>
            <a:br>
              <a:rPr sz="2500"/>
            </a:b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Obiettivo e caratteristiche della sperimentazione</a:t>
            </a:r>
            <a:endParaRPr b="1" lang="en-US" sz="24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143000"/>
            <a:ext cx="79390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90000"/>
              </a:lnSpc>
              <a:spcBef>
                <a:spcPts val="150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143000"/>
            <a:ext cx="7939080" cy="38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Obiettivo della speriment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Valutare l’impatto di un intervento formativ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Caratteristiche del ca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Intervento formativo effettuato dal Forme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Ambito di valutazione: funzioni della comunicazione, indefini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Trade-off costi benefici della valutazione: finalità, risorse disponibili, scelte metodologich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3CA9-B105-4791-873E-60F8ADC61E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Sistemi informativi –  Caso Agenzie fiscali</a:t>
            </a:r>
            <a:br>
              <a:rPr sz="2500"/>
            </a:b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Obiettivo e caratteristiche della sperimentazione</a:t>
            </a:r>
            <a:endParaRPr b="1" lang="en-US" sz="24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143000"/>
            <a:ext cx="79390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90000"/>
              </a:lnSpc>
              <a:spcBef>
                <a:spcPts val="150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143000"/>
            <a:ext cx="79390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Obiettivo della sperimentazi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Descrivere i requisiti metodologici per l’integrazione tra sistemi informativi a supporto della formazione (macro-process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Caratteristiche del ca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Differenziazione tra processi nelle 3 Agenzie interessa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Esistenza di sotto-sistemi informativi, alcuni non dialogan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Sperimentazione dell’approccio alla progettazione di un sistema informativo per la formazione: process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A37A-E2E1-4067-90E8-75C736F3AE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3366"/>
                </a:solidFill>
                <a:latin typeface="Arial"/>
              </a:rPr>
              <a:t>Guida - </a:t>
            </a:r>
            <a:r>
              <a:rPr b="0" i="1" lang="it-IT" sz="2400" spc="-1" strike="noStrike">
                <a:solidFill>
                  <a:srgbClr val="003366"/>
                </a:solidFill>
                <a:latin typeface="Arial"/>
              </a:rPr>
              <a:t>Obiettivi e processo di realizzazione</a:t>
            </a:r>
            <a:endParaRPr b="1" lang="en-US" sz="2400" spc="-1" strike="noStrike">
              <a:solidFill>
                <a:srgbClr val="8c21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143000"/>
            <a:ext cx="79390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90000"/>
              </a:lnSpc>
              <a:spcBef>
                <a:spcPts val="1500"/>
              </a:spcBef>
              <a:buClr>
                <a:srgbClr val="0f0501"/>
              </a:buClr>
              <a:buFont typeface="Arial"/>
              <a:buChar char="•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143000"/>
            <a:ext cx="7939080" cy="65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f0501"/>
                </a:solidFill>
                <a:latin typeface="Arial"/>
                <a:ea typeface="Times New Roman"/>
              </a:rPr>
              <a:t>Obiettiv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  <a:ea typeface="Times New Roman"/>
              </a:rPr>
              <a:t>Facilitare lo sviluppo della funzione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f0501"/>
                </a:solidFill>
                <a:latin typeface="Arial"/>
              </a:rPr>
              <a:t>Processo di realizzazion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</a:rPr>
              <a:t>Ricognizione delle esperienze e delle pratiche di gestione della form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</a:rPr>
              <a:t>Percorso di Laboratorio e contestuale redazione della prima bozza (versione 22 ottobre 200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</a:rPr>
              <a:t>Integrazione con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</a:rPr>
              <a:t>1. risultati della sperimentazi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</a:rPr>
              <a:t>2. integrazione su indicazioni di tutte le P.A. aderenti al proget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f0501"/>
                </a:solidFill>
                <a:latin typeface="Arial"/>
              </a:rPr>
              <a:t>3. condivisione con i vertici amministrativ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spcBef>
                <a:spcPts val="1250"/>
              </a:spcBef>
              <a:buClr>
                <a:srgbClr val="0f0501"/>
              </a:buClr>
              <a:buFont typeface="Arial"/>
              <a:buChar char="•"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1FA17-41DB-4CDA-BF4A-5B5FC9A0A0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9T09:46:00Z</dcterms:created>
  <dc:creator>rampino</dc:creator>
  <dc:description/>
  <dc:language>en-US</dc:language>
  <cp:lastModifiedBy>xxx</cp:lastModifiedBy>
  <dcterms:modified xsi:type="dcterms:W3CDTF">2004-10-29T08:58:20Z</dcterms:modified>
  <cp:revision>427</cp:revision>
  <dc:subject/>
  <dc:title>Gruppo primo livello </dc:title>
</cp:coreProperties>
</file>